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E9F-032F-415B-90CB-9FB70BAD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6CD-E4D8-446A-AE4C-7C73F46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867-C8CE-4DEA-9213-CACA1137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E9E-DDAE-46A8-86DE-FB6B6E0B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B598-E8AC-469B-BF79-CD765884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E04-255E-4227-9B99-75AFC449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FD4-F546-4B8F-8E50-D9AE370D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668-BDE4-4792-BCD4-F87B50F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5270-A489-42E3-A86B-51BA6225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762A-1767-462D-BC08-B0A0A4B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D9A9-A36F-4A95-A0F6-3A66126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139-E2CE-4CAD-B53C-2DE435B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9563-5977-4C9F-A6A8-D1F9E93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77F-E12F-4269-97AC-9689AE7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4038-AD3A-4055-80A4-BE6ECC3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56E-EBA2-46B9-A0BC-776851D6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EFAF-F038-4049-A6CE-1EF1336D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504-46BC-43E0-8FCA-D0CCE38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00E-952C-45ED-B887-906B75E5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EB8-F04F-46C1-BFCF-4931C9F1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087-6615-4AD9-8809-5E33A307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992-DFD9-4E71-AAB2-B8CF575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BBA-67C2-4CA4-9BF9-F123A1A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360-A8A1-4FB2-B6BE-11E7C83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5CA-7177-4B03-BA45-4F25DCAECA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376C-1840-4006-BDDC-481A1BEBE7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Государственное област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 «Минькинская специальная (коррекционная) общеобразовательная школа-интернат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V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 вид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готовности О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 введению ФГОС для дет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 ТН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еятельность школьного психолого-медико-педагогического консилиу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1781280"/>
            <a:ext cx="8280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спространение опыта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сероссийских педагогических чтениях по проблемам коррекционной педагогики в Российской академии образования в 2007 году школа-интернат награждена дипломом лауреата за обобщение опыта работы по теме «Применение информационных технологий в школе-интерна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и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спространение опыта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ыт работу школы-интерната представляется на региональных, всероссийских и международных конференци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егодно проводятся семинары для педагогов, проходящих повышение квалификации в Мурманском институте развития образования, для преподавателей и студентов МГГУ и РГС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уденты МГГУ и РГСУ проходят практику на базе ГОБОУ МСКОШ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но 3 сборника статей из опыта работы ГОБОУ МСКОШИ (совместно с МГГ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атериально-техническое оснащение ГОБОУ М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активных досок –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екторов – 2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мпьютеров – 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 компьютерных кла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 мобильный компьютерный 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 лингафонный кабин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 компьютерных логопедических тренажёров «Дэльф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 компьютерных логопедических тренажёров «Демосфен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бота по подготовке ОУ к введению ФГОС для детей с ТН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 01.02.2014 г. ГОБОУ МСКОШИ является Федеральной экспериментальной площадкой по введен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ФГОС для детей с ТН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КАЗ 20.01.2014 г. №31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О создании рабочей группы по подготовке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введения ФГОС для детей с ОВЗ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твердить следующий состав  рабочей группы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меститель директора по КР Мельниченко Е.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уководитель МО Савенкова Е.А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я начальных классов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арина Н.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хомова О.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рвак Н.Д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мохина Е.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-психолог Фомина С.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КАЗ 20.01.2014 г. №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 утверждении положения о рабочей группе по введению ФГОС для детей с ОВ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на форма договора о предоставлении начального обще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детей с ТН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-граф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ведения федерального государственного образовательного стандарта (ФГО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детей с тяжёлыми нарушениями речи началь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ГОБОУ МСКОШ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верждён приказом директора ГОБОУ МСКОШИ №68 от 25.02.201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ая концепция специального Федерального государственного стандарта для детей с ограниченными возможностями здоровь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основные положен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8.01.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P1010113"/>
          <p:cNvPicPr/>
          <p:nvPr/>
        </p:nvPicPr>
        <p:blipFill>
          <a:blip r:embed="rId1"/>
          <a:stretch/>
        </p:blipFill>
        <p:spPr>
          <a:xfrm>
            <a:off x="357120" y="4214880"/>
            <a:ext cx="2700360" cy="202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Users\Мельниченко ЕТ\Desktop\ФОТО ФГОС\P1010660.JPG"/>
          <p:cNvPicPr/>
          <p:nvPr/>
        </p:nvPicPr>
        <p:blipFill>
          <a:blip r:embed="rId2"/>
          <a:stretch/>
        </p:blipFill>
        <p:spPr>
          <a:xfrm>
            <a:off x="3286080" y="4214880"/>
            <a:ext cx="2685960" cy="20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Мельниченко ЕТ\Desktop\ФОТО ФГОС\P1010654.JPG"/>
          <p:cNvPicPr/>
          <p:nvPr/>
        </p:nvPicPr>
        <p:blipFill>
          <a:blip r:embed="rId3"/>
          <a:stretch/>
        </p:blipFill>
        <p:spPr>
          <a:xfrm>
            <a:off x="6143760" y="4214880"/>
            <a:ext cx="26622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Государственное областное бюджетное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«Минькинская специальная (коррекционная) общеобразовательная школа-интернат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V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вид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о в 1995 г. Управлением образования Мурманской области для обучения и воспитания детей с тяжёлой речевой патологией и детей, проживающих на территории села Миньки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2" descr="F:\Пришкольная территория\DSC00198.jpg"/>
          <p:cNvPicPr/>
          <p:nvPr/>
        </p:nvPicPr>
        <p:blipFill>
          <a:blip r:embed="rId1"/>
          <a:stretch/>
        </p:blipFill>
        <p:spPr>
          <a:xfrm>
            <a:off x="2857680" y="3286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Заседание М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ей начальных классов и логопе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21.02.2014 г., протокол №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суждение проекта Федерального государственного стандарта начального общего образования для детей с нарушениями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Мельниченко ЕТ\Desktop\САЙТ ФГОС\Заседание МО\P1010663.JPG"/>
          <p:cNvPicPr/>
          <p:nvPr/>
        </p:nvPicPr>
        <p:blipFill>
          <a:blip r:embed="rId1"/>
          <a:stretch/>
        </p:blipFill>
        <p:spPr>
          <a:xfrm>
            <a:off x="714240" y="4714920"/>
            <a:ext cx="2186280" cy="163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Мельниченко ЕТ\Desktop\САЙТ ФГОС\Заседание МО\P1010667.JPG"/>
          <p:cNvPicPr/>
          <p:nvPr/>
        </p:nvPicPr>
        <p:blipFill>
          <a:blip r:embed="rId2"/>
          <a:stretch/>
        </p:blipFill>
        <p:spPr>
          <a:xfrm>
            <a:off x="3357720" y="4714920"/>
            <a:ext cx="2185920" cy="163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Мельниченко ЕТ\Desktop\САЙТ ФГОС\Заседание МО\Изображение 14808.jpg"/>
          <p:cNvPicPr/>
          <p:nvPr/>
        </p:nvPicPr>
        <p:blipFill>
          <a:blip r:embed="rId3"/>
          <a:stretch/>
        </p:blipFill>
        <p:spPr>
          <a:xfrm>
            <a:off x="6072120" y="4714920"/>
            <a:ext cx="23288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1468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Анализ кадровых ресурсов ГОБОУ МСКОШИ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 на соответствие требованиям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ведения ФГОС  образования детей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 с тяжёлыми нарушениями реч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2% педагогов имеют высшее образование, 18%  - среднее специально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6% педагогов имеют высшую квалификационную категорию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6% - первую квалификационную категори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7% - соответствие занимаемой долж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91% педагогов прошли курсовую подготовку по ИКТ-компетен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а заявка на прохождение курсовой подготовки по апробации ФГОС для детей с ОВ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Организация пространства, в котором обучаются обучающиеся с ТН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странство (здание и прилегающая)  территория соответствуют общим требованиям, предъявляемым к образовательным организация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санитарно-гигиенические нормы образовательного процесса соблюдаются (требования к водоснабжению, канализации, освещению, воздушно-тепловому режиму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санитарно-бытовые и социально-бытовые условия соответствуют требования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пожарная и электробезопасность  соответствуют требования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требования охраны труда соблюдают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сроки и необходимые объёмы текущего и капитального ремонтов выполняю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6280" y="1499760"/>
            <a:ext cx="80010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ответствует действующим санитарным и противопожарным нормам, нормам охраны труда работников образовательной организац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участок (территория) образовательной организации (площадь, инсоляция, освещение, размещение, необходимый набор зон для обеспечения образовательной и хозяйственной деятельности образовательной организации и их оборудование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  здание образовательной организации (высота и архитектура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 актовый, спортивный залы, сенсорная комна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 кабинеты медицинского назна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 помещения для питания обучающихся, а также для хранения и приготовления пищи, обеспечивающие возможность организации качественного горячего пита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 туалеты, душевые, коридоры и другие помеще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помещения для осуществления образовательного процесса: классы, кабинеты учителя-логопеда, педагога-психолога (необходимый набор и размещение, их площадь, освещенность, расположение и размеры рабочих, игровых зон и зон для индивидуальных занятий в учебных кабинетах образовательной организации, для активной деятельности и отдыха, структура которых должна обеспечивать возможность для организации урочной и внеурочной деятельност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атериально-техническая б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класс оборудован партами в соответствии с ростом учащих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анализировано состояние оборудования классов и рабочих мест учителей и учащих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лены и отправлены заявки на оборудование, технические средства и информационные технологии, необходимые для обучения детей с ОВ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атериально-техническая б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4200" y="1752120"/>
            <a:ext cx="8353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орудование кабинетов начальных класс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терактивная дос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екто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евизо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кран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пьютер учите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пьютерная программа  «Дэльф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пьютерная программа  «Демосфен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Оборудование кабинетов начальных классов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" descr="C:\Users\Мельниченко ЕТ\Desktop\ФОТО ФГОС\P1010673.JPG"/>
          <p:cNvPicPr/>
          <p:nvPr/>
        </p:nvPicPr>
        <p:blipFill>
          <a:blip r:embed="rId1"/>
          <a:stretch/>
        </p:blipFill>
        <p:spPr>
          <a:xfrm>
            <a:off x="500040" y="185724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Мельниченко ЕТ\Desktop\ФОТО ФГОС\P1010668.JPG"/>
          <p:cNvPicPr/>
          <p:nvPr/>
        </p:nvPicPr>
        <p:blipFill>
          <a:blip r:embed="rId2"/>
          <a:stretch/>
        </p:blipFill>
        <p:spPr>
          <a:xfrm>
            <a:off x="6286680" y="1857240"/>
            <a:ext cx="1995480" cy="149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Мельниченко ЕТ\Desktop\ФОТО ФГОС\P1010671.JPG"/>
          <p:cNvPicPr/>
          <p:nvPr/>
        </p:nvPicPr>
        <p:blipFill>
          <a:blip r:embed="rId3"/>
          <a:stretch/>
        </p:blipFill>
        <p:spPr>
          <a:xfrm>
            <a:off x="3357720" y="18399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:\Мои документы\ФОТО\Занятия,классы\IMG_1062.jpg"/>
          <p:cNvPicPr/>
          <p:nvPr/>
        </p:nvPicPr>
        <p:blipFill>
          <a:blip r:embed="rId4"/>
          <a:stretch/>
        </p:blipFill>
        <p:spPr>
          <a:xfrm>
            <a:off x="500040" y="3786120"/>
            <a:ext cx="1989000" cy="1492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:\Мои документы\ФОТО\Занятия,классы\IMG_1067.jpg"/>
          <p:cNvPicPr/>
          <p:nvPr/>
        </p:nvPicPr>
        <p:blipFill>
          <a:blip r:embed="rId5"/>
          <a:stretch/>
        </p:blipFill>
        <p:spPr>
          <a:xfrm>
            <a:off x="3286080" y="378612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:\Мои документы\ФОТО\Занятия,классы\IMG_1079.jpg"/>
          <p:cNvPicPr/>
          <p:nvPr/>
        </p:nvPicPr>
        <p:blipFill>
          <a:blip r:embed="rId6"/>
          <a:stretch/>
        </p:blipFill>
        <p:spPr>
          <a:xfrm>
            <a:off x="6286680" y="378612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еспечение учебни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ение учебниками  для шко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вида и по программе «Школа России» - 10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Информационное  обеспечени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ация о деятельности ГОБОУ МСКОШИ по организации подготовки введения ФГОС для детей с ОВЗ размещена на сайте учреж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ланировано родительское собрание на 26.03.201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-38736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. Миньки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учебно-воспитательного проце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воспитательный процесс осуществляется в учебном и спальном корпусах. Оборудованы 18 учебных и учебно-коррекционных кабинетов, 2 мастерские – технического и обслуживающего труда, спортивный и тренажёрный залы, сенсорная комната, теплица. Оснащены в соответствии с требованиями лицензии на медицинскую деятельность врачебный кабинет, изолятор, процедурный каби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нтингент 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ГОБОУ МСКОШИ обучается и проживает 120 детей с ТНР со всей Мурманской области и обучается 5 детей с. Миньки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12 года в общеобразовательном классе введён ФГОС НО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реждении создано уникальное единое образовательное пространство  для детей с ОВЗ и детей, проживающих на территории села Минькино, не имеющее аналогов в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рушения речи обучающихся</a:t>
            </a:r>
            <a:br>
              <a:rPr sz="28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итоги диагностики 2013 – 2014 уч. год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 ОНР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ень) – 6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ОНР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ень) – 6,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ОНР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 – I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ень0 – 3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I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ень) – 1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Нарушение чтения и письма, обусловленное 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 - 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ня -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Нарушение чтения и письма, обусловленное 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ня -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Нарушение чтения и письма, обусловленное 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ня -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Нарушение чтения и письма, обусловленное 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уровня -  61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9. Нарушение чтения и письма, обусловленное лексико-грамматическим недоразвитием речи - 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 том числе обучающихся, которые имеют логопедические заключе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икание                                       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изартрический компонент        5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инофония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лалия                                          1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изартрия                                     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илингвизм                                   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дровое обесп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БОУ МСКОШИ работают 11 воспитателей, 20 учителей (из них имеют дефектологическое образование – 35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8% учителей имеют высшую и первую квалификационные категории, 39% имеют награды Министерства образования РФ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У работают 6 кандидатов нау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хническая оснащённост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чебном и коррекционном процессах применяется 24 обучающих компьютерных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ая оснащённость учреждения составляет 1 компьютер на 3 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школьные компьютеры объединены в локальную сеть с защитой информации и фильтрацией «по белому списк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% уроков проводится с использованием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71760" y="4500720"/>
            <a:ext cx="2663640" cy="199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Мельниченко ЕТ\Desktop\НЕДЕЛЯ ПЕДАГОГИЧЕСКОГО МАСТЕРСТВА\Савицкая Е.В\P1010248.JPG"/>
          <p:cNvPicPr/>
          <p:nvPr/>
        </p:nvPicPr>
        <p:blipFill>
          <a:blip r:embed="rId2"/>
          <a:stretch/>
        </p:blipFill>
        <p:spPr>
          <a:xfrm>
            <a:off x="5072040" y="45007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ма работы шко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менение современных педагогических технологий  в учебно-коррекционной работе, как  инновационное направление, способствующее развит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колы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ви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Система коррекционной работы в ГОБОУ М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95280" y="1752480"/>
            <a:ext cx="842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10:13Z</dcterms:created>
  <dc:creator>XP GAME 2008</dc:creator>
  <dc:description/>
  <dc:language>en-US</dc:language>
  <cp:lastModifiedBy>Мельниченко ЕТ</cp:lastModifiedBy>
  <dcterms:modified xsi:type="dcterms:W3CDTF">2014-03-04T07:09:10Z</dcterms:modified>
  <cp:revision>98</cp:revision>
  <dc:subject/>
  <dc:title>Государственное областное бюджетное образовательное учреждение  «Минькинская специальная (коррекционная) общеобразовательная школа-интернат V вида»</dc:title>
</cp:coreProperties>
</file>