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31.wmf" ContentType="image/x-wmf"/>
  <Override PartName="/ppt/media/image26.jpeg" ContentType="image/jpeg"/>
  <Override PartName="/ppt/media/image42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5.wmf" ContentType="image/x-wmf"/>
  <Override PartName="/ppt/media/image14.png" ContentType="image/png"/>
  <Override PartName="/ppt/media/image54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30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6.wmf" ContentType="image/x-wmf"/>
  <Override PartName="/ppt/media/image36.png" ContentType="image/png"/>
  <Override PartName="/ppt/media/image48.png" ContentType="image/png"/>
  <Override PartName="/ppt/media/image44.jpeg" ContentType="image/jpeg"/>
  <Override PartName="/ppt/media/image45.png" ContentType="image/png"/>
  <Override PartName="/ppt/media/image51.jpeg" ContentType="image/jpeg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12.png" ContentType="image/png"/>
  <Override PartName="/ppt/media/image52.wmf" ContentType="image/x-wmf"/>
  <Override PartName="/ppt/media/image49.png" ContentType="image/png"/>
  <Override PartName="/ppt/media/image50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1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E0AC-A90E-4783-964E-47E4CD238D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9-2011 г.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67ED-DD66-452D-9514-32F798F593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7A1D-8756-4D27-AF2E-71882BA0B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3B0B-4136-4AC2-93AB-BEAE5E84F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8-2010 г.г., о разработке Программы на среднесроч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3D82-BD28-4A2F-BF1B-BDB6C1266B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ru-RU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8-2010 г.г., о разработке Программы на среднесроч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CFB2-14DD-43E8-805D-50EA4A3BB0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ru-RU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8-2010 г.г., о разработке Программы на среднесроч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F47-90B2-4421-8FCD-A890D24AEF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i="1" lang="ru-RU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D39A-518C-4CB8-8377-594605FFE1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3161-BD41-4E23-87CA-3297AF75C9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FACF-4DBC-43A0-9718-A05C2875A5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за 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9D9F-051C-4AAA-9C86-3D3482B247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F369-2D54-4281-9E07-68B9AF8FCB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артамент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араметры прогноза социально-экономического развития области на 2008-2010 г.г., о разработке Программы на среднесроч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Семе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6D68-F338-4C84-81AB-0CB46D6DD5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3A08-3A2A-41FC-ACC4-0E75D91082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630-575F-42FE-B1E0-0728E093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A12-BBDA-4645-88D5-1614366F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EC7-7A02-423D-92CB-59F8AC33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341-146F-48C9-9A4E-02F39AA6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29687-A695-43D8-B478-C87EF2C7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9597C-2D57-4577-BE37-C72C30F9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CB2AD-80DD-4E0A-B386-9D61BAF5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5BBAA-83AB-47DD-B161-1A07E59F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1788A-1CD3-4475-9337-5A7A7778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ED336-2130-4E12-B84B-AC3A2AC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DBEE4-3614-4D20-A3E0-EF2A09AF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1A6-F569-4516-B697-7E59C664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000D2-906C-4F99-A936-35AC7B9D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1C34C-55B5-47F2-875F-D8A4188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DD038-321E-4783-945A-CA4F7F95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BAA7B-BC99-4D35-B8C5-B68593C5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6E506-F659-4823-8DE5-13DF4654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692-D98B-498A-89EC-E9A8324E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541-10A7-45C9-B8DB-E66B65D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FB9-A587-45D1-A72A-2620619D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B8E-E526-4DEA-80CA-2D8879A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6C4-A65F-47BE-9BEA-2DFF92BE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197-36E9-4AAA-B445-8F9C5DA7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197-7575-4C92-95BA-B54E892B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8BD3-CF11-4D35-8FC1-F87F2A78AD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DF3C-46DA-45AD-9E34-068502640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31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text=&#1080;&#1085;&#1090;&#1077;&#1088;&#1072;&#1082;&#1090;&#1080;&#1074;&#1085;&#1072;&#1103;%20&#1076;&#1086;&#1089;&#1082;&#1072;&amp;img_url=wiki.vspu.ru%2F_media%2Fusers%2Ftrx22%2Fmy_project%2Ffiles%2Fklass.jpg&amp;pos=5&amp;rpt=simage&amp;nojs=1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yandex.ru/yandsearch?img_url=www.inavate.ru%2Fsite%2Fimages%2Fstories%2Fmultiscreen%2Flifesize_room_1.jpg&amp;iorient=&amp;icolor=&amp;site=&amp;text=&#1089;&#1087;&#1077;&#1094;&#1080;&#1072;&#1083;&#1080;&#1079;&#1080;&#1088;&#1086;&#1074;&#1072;&#1085;&#1085;&#1054;&#1045;%20&#1054;&#1073;&#1086;&#1088;&#1091;&#1076;&#1086;&#1074;&#1072;&#1085;&#1080;&#1077;%20&#1074;&#1080;&#1076;&#1077;&#1086;&#1082;&#1086;&#1085;&#1092;&#1077;&#1088;&#1077;&#1085;&#1094;&#1089;&#1074;&#1103;&#1079;&#1080;&amp;wp=&amp;pos=19&amp;isize=&amp;type=&amp;recent=&amp;rpt=simage&amp;itype=&amp;nojs=1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images.yandex.ru/yandsearch?img_url=kp.ru%2Ff%2F4%2Fimage%2F78%2F81%2F498178.jpg&amp;iorient=&amp;icolor=&amp;site=&amp;text=&#1055;&#1054;&#1051;&#1048;&#1042;&#1040;&#1051;&#1045;&#1053;&#1058;&#1053;&#1067;&#1049;%20&#1047;&#1040;&#1051;&amp;wp=&amp;pos=0&amp;isize=&amp;type=&amp;recent=&amp;rpt=simage&amp;itype=&amp;nojs=1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images.yandex.ru/yandsearch?img_url=www.atanor.ru%2Fupload%2Fimages%2Fnews%2F100527-hotel-college%2F026-college-hotel-08-320.jpg&amp;iorient=&amp;icolor=&amp;p=1&amp;site=&amp;text=&#1084;&#1091;&#1083;&#1100;&#1090;&#1080;&#1084;&#1077;&#1076;&#1080;&#1081;&#1085;&#1099;&#1049;%20&#1083;&#1080;&#1085;&#1075;&#1072;&#1092;&#1086;&#1085;&#1085;&#1099;&#1049;%20&#1082;&#1083;&#1072;&#1089;&#1089;&amp;wp=&amp;pos=34&amp;isize=&amp;type=&amp;recent=&amp;rpt=simage&amp;itype=&amp;nojs=1" TargetMode="External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755640" y="765000"/>
            <a:ext cx="7500960" cy="4179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9280" y="2276640"/>
            <a:ext cx="86788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Концепции развития единой информационн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ой среды в Мурман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2014-2020 год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 итогах реализации Концепции внед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овременных информационно-коммуникацио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й в общеобразовательных учрежден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урманской обла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Электронная школа  Мурманской области»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 2011-2013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643800" y="12952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 марта 2014 год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Мурма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79280" y="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рм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6000840" y="4929120"/>
            <a:ext cx="315900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B9F-7059-4D7F-8B47-681CA2BBF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57120" y="5572080"/>
            <a:ext cx="5214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ведующий сектором информатизации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.Н. Пустова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Диаграмма 9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156960" cy="6089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ая соединительная линия 5"/>
          <p:cNvSpPr/>
          <p:nvPr/>
        </p:nvSpPr>
        <p:spPr>
          <a:xfrm flipV="1">
            <a:off x="357120" y="2786040"/>
            <a:ext cx="8643960" cy="460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>
            <a:off x="569160" y="1928520"/>
            <a:ext cx="2520" cy="85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3" name="TextBox 1"/>
          <p:cNvSpPr/>
          <p:nvPr/>
        </p:nvSpPr>
        <p:spPr>
          <a:xfrm>
            <a:off x="285840" y="1571760"/>
            <a:ext cx="3000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реднее  значение по области в 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2013 году </a:t>
            </a: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– 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7" descr="ПКиИнтернет.jpg"/>
          <p:cNvPicPr/>
          <p:nvPr/>
        </p:nvPicPr>
        <p:blipFill>
          <a:blip r:embed="rId3"/>
          <a:stretch/>
        </p:blipFill>
        <p:spPr>
          <a:xfrm>
            <a:off x="0" y="0"/>
            <a:ext cx="1143000" cy="9367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"/>
          <p:cNvSpPr/>
          <p:nvPr/>
        </p:nvSpPr>
        <p:spPr>
          <a:xfrm>
            <a:off x="2643120" y="0"/>
            <a:ext cx="3000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реднее  значение по области в 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2010 году </a:t>
            </a: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– 14,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142920" y="1000080"/>
          <a:ext cx="8858160" cy="5516640"/>
        </p:xfrm>
        <a:graphic>
          <a:graphicData uri="http://schemas.openxmlformats.org/drawingml/2006/table">
            <a:tbl>
              <a:tblPr/>
              <a:tblGrid>
                <a:gridCol w="4581360"/>
                <a:gridCol w="1038240"/>
                <a:gridCol w="881280"/>
                <a:gridCol w="1074600"/>
                <a:gridCol w="1282680"/>
              </a:tblGrid>
              <a:tr h="112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Целевой инд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юнь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пла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(фак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тепень дост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реднее количество обучающихся на один современный ПК в 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30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личество учащихся на один ПК, имеющий доступ в Интернет в общеобразовательных учрежде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ОУ, имеющих общешкольные локальные вычислительные се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9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97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учреждений, имеющих кабинеты ОИВТ в ОУ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9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00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ОУ имеющих компьютерные классы в составе не менее 7 ПК, работающих в единой локально-вычислительной сети с широкополосным доступом в Интернет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9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00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 ОУ, имеющих электронную библиотеку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8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25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Box 23"/>
          <p:cNvSpPr/>
          <p:nvPr/>
        </p:nvSpPr>
        <p:spPr>
          <a:xfrm>
            <a:off x="0" y="142920"/>
            <a:ext cx="8072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ЦЕЛЕВЫЕ ПОКАЗАТЕЛИ ЭФФЕКТИВНОСТИ РЕАЛИЗАЦИИ КОНЦЕПЦИИ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ИКТ-инфраструктура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Диаграмма 11" descr=""/>
          <p:cNvPicPr/>
          <p:nvPr/>
        </p:nvPicPr>
        <p:blipFill>
          <a:blip r:embed="rId1"/>
          <a:stretch/>
        </p:blipFill>
        <p:spPr>
          <a:xfrm>
            <a:off x="-158760" y="1994040"/>
            <a:ext cx="9309240" cy="4333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2"/>
          <p:cNvSpPr/>
          <p:nvPr/>
        </p:nvSpPr>
        <p:spPr>
          <a:xfrm>
            <a:off x="0" y="0"/>
            <a:ext cx="8001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Я РАБОТНИКОВ ОУ, ИМЕЮЩИХ БАЗОВЫЕ НАВЫКИ ИСПОЛЬЗОВАНИЯ И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2"/>
          <p:cNvSpPr/>
          <p:nvPr/>
        </p:nvSpPr>
        <p:spPr>
          <a:xfrm>
            <a:off x="3786120" y="121428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16"/>
          <p:cNvSpPr/>
          <p:nvPr/>
        </p:nvSpPr>
        <p:spPr>
          <a:xfrm flipV="1">
            <a:off x="500040" y="3286080"/>
            <a:ext cx="8643960" cy="46080"/>
          </a:xfrm>
          <a:prstGeom prst="line">
            <a:avLst/>
          </a:prstGeom>
          <a:ln w="324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5929200" y="1500120"/>
            <a:ext cx="3000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Среднее  значение по области  -  95,7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Прямая со стрелкой 19"/>
          <p:cNvCxnSpPr/>
          <p:nvPr/>
        </p:nvCxnSpPr>
        <p:spPr>
          <a:xfrm>
            <a:off x="8857080" y="1999800"/>
            <a:ext cx="1080" cy="135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8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Диаграмма 10" descr=""/>
          <p:cNvPicPr/>
          <p:nvPr/>
        </p:nvPicPr>
        <p:blipFill>
          <a:blip r:embed="rId3"/>
          <a:stretch/>
        </p:blipFill>
        <p:spPr>
          <a:xfrm>
            <a:off x="2992320" y="633240"/>
            <a:ext cx="3799080" cy="9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8001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ИСПОЛЬЗОВАНИЕ ИКТ  В ОБРАЗОВАТЕЛЬ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pic>
        <p:nvPicPr>
          <p:cNvPr id="292" name="Object 4" descr=""/>
          <p:cNvPicPr/>
          <p:nvPr/>
        </p:nvPicPr>
        <p:blipFill>
          <a:blip r:embed="rId2"/>
          <a:stretch/>
        </p:blipFill>
        <p:spPr>
          <a:xfrm>
            <a:off x="5429160" y="1714680"/>
            <a:ext cx="3714840" cy="192384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5"/>
          <p:cNvSpPr/>
          <p:nvPr/>
        </p:nvSpPr>
        <p:spPr>
          <a:xfrm>
            <a:off x="785880" y="3833640"/>
            <a:ext cx="335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оля  школ, использующих ИС для управления деятельностью, в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7"/>
          <p:cNvSpPr/>
          <p:nvPr/>
        </p:nvSpPr>
        <p:spPr>
          <a:xfrm>
            <a:off x="5643720" y="114300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оля уроков с использованием современных ИКТ, в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13" descr=""/>
          <p:cNvPicPr/>
          <p:nvPr/>
        </p:nvPicPr>
        <p:blipFill>
          <a:blip r:embed="rId3"/>
          <a:stretch/>
        </p:blipFill>
        <p:spPr>
          <a:xfrm>
            <a:off x="5214960" y="4429080"/>
            <a:ext cx="3666960" cy="21146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7"/>
          <p:cNvSpPr/>
          <p:nvPr/>
        </p:nvSpPr>
        <p:spPr>
          <a:xfrm>
            <a:off x="5286240" y="3691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оля общеобразовательных учреждений, использующих в учебно-образовательном процессе ЭОР, в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7"/>
          <p:cNvSpPr/>
          <p:nvPr/>
        </p:nvSpPr>
        <p:spPr>
          <a:xfrm>
            <a:off x="500040" y="121428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оля учителей, систематически использующих ИКТ в ОП, в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1"/>
          <p:cNvGraphicFramePr/>
          <p:nvPr/>
        </p:nvGraphicFramePr>
        <p:xfrm>
          <a:off x="500040" y="4714920"/>
          <a:ext cx="3714840" cy="163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99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040" y="4714920"/>
                    <a:ext cx="37148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500040" y="1785960"/>
          <a:ext cx="3714840" cy="17715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040" y="1785960"/>
                    <a:ext cx="371484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Диаграмма 9" descr=""/>
          <p:cNvPicPr/>
          <p:nvPr/>
        </p:nvPicPr>
        <p:blipFill>
          <a:blip r:embed="rId1"/>
          <a:stretch/>
        </p:blipFill>
        <p:spPr>
          <a:xfrm>
            <a:off x="-6480" y="774720"/>
            <a:ext cx="9309240" cy="6089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"/>
          <p:cNvSpPr/>
          <p:nvPr/>
        </p:nvSpPr>
        <p:spPr>
          <a:xfrm>
            <a:off x="971640" y="2708280"/>
            <a:ext cx="803592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Object 8" descr=""/>
          <p:cNvPicPr/>
          <p:nvPr/>
        </p:nvPicPr>
        <p:blipFill>
          <a:blip r:embed="rId3"/>
          <a:stretch/>
        </p:blipFill>
        <p:spPr>
          <a:xfrm>
            <a:off x="3286080" y="714240"/>
            <a:ext cx="3714840" cy="1638360"/>
          </a:xfrm>
          <a:prstGeom prst="rect">
            <a:avLst/>
          </a:prstGeom>
          <a:ln w="0">
            <a:noFill/>
          </a:ln>
        </p:spPr>
      </p:pic>
      <p:sp>
        <p:nvSpPr>
          <p:cNvPr id="307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0"/>
          <p:cNvSpPr/>
          <p:nvPr/>
        </p:nvSpPr>
        <p:spPr>
          <a:xfrm flipV="1">
            <a:off x="357120" y="3811680"/>
            <a:ext cx="8643960" cy="46080"/>
          </a:xfrm>
          <a:prstGeom prst="line">
            <a:avLst/>
          </a:prstGeom>
          <a:ln w="324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0" y="0"/>
            <a:ext cx="721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Я ШКОЛ, РЕАЛИЗУЮЩИХ ПРОГРАММЫ С ИСПОЛЬЗОВАНИЕМ ДИСТАН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"/>
          <p:cNvSpPr/>
          <p:nvPr/>
        </p:nvSpPr>
        <p:spPr>
          <a:xfrm>
            <a:off x="5786280" y="2714760"/>
            <a:ext cx="3000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Среднее  значение по области  -  39,8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Прямая со стрелкой 13"/>
          <p:cNvCxnSpPr/>
          <p:nvPr/>
        </p:nvCxnSpPr>
        <p:spPr>
          <a:xfrm flipH="1">
            <a:off x="8286480" y="2999880"/>
            <a:ext cx="216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142920" y="1000080"/>
          <a:ext cx="8858160" cy="5241960"/>
        </p:xfrm>
        <a:graphic>
          <a:graphicData uri="http://schemas.openxmlformats.org/drawingml/2006/table">
            <a:tbl>
              <a:tblPr/>
              <a:tblGrid>
                <a:gridCol w="4581360"/>
                <a:gridCol w="1038240"/>
                <a:gridCol w="881280"/>
                <a:gridCol w="1000080"/>
                <a:gridCol w="1357200"/>
              </a:tblGrid>
              <a:tr h="112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Целевой инд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Июнь 20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пла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 Unicode MS"/>
                          <a:ea typeface="Arial Unicode MS"/>
                        </a:rPr>
                        <a:t>(фак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тепень достиж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 ОУ, в которых используются ИС правления деятельностью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учителей, систематически использующих ИКТ в образовательном процессе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5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0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уроков, проводимых с использованием современных информационно-коммуникационных технолог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4,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4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ОУ, использующих в учебно-образовательном процессе электронные образовательные ресурсы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оля работников ОУ, имеющих базовые навыки использования информационно-коммуникационных технолог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Unicode MS"/>
                          <a:ea typeface="Arial Unicode MS"/>
                        </a:rPr>
                        <a:t>10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Box 23"/>
          <p:cNvSpPr/>
          <p:nvPr/>
        </p:nvSpPr>
        <p:spPr>
          <a:xfrm>
            <a:off x="0" y="14292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ЦЕЛЕВЫЕ ПОКАЗАТЕЛИ ЭФФЕКТИВНОСТИ РЕАЛИЗАЦИИ КОНЦЕПЦИИ  (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ование И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"/>
          <p:cNvSpPr/>
          <p:nvPr/>
        </p:nvSpPr>
        <p:spPr>
          <a:xfrm>
            <a:off x="0" y="0"/>
            <a:ext cx="8001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СОВЕТ ПО ИНФОРМАТИЗАЦИИ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(утв. приказом от 02.02.2012 №2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Выноска со стрелкой вправо 4"/>
          <p:cNvGrpSpPr/>
          <p:nvPr/>
        </p:nvGrpSpPr>
        <p:grpSpPr>
          <a:xfrm>
            <a:off x="36360" y="1238400"/>
            <a:ext cx="4591080" cy="1126800"/>
            <a:chOff x="36360" y="1238400"/>
            <a:chExt cx="4591080" cy="1126800"/>
          </a:xfrm>
        </p:grpSpPr>
        <p:pic>
          <p:nvPicPr>
            <p:cNvPr id="319" name="Выноска со стрелкой вправо 4" descr=""/>
            <p:cNvPicPr/>
            <p:nvPr/>
          </p:nvPicPr>
          <p:blipFill>
            <a:blip r:embed="rId2"/>
            <a:stretch/>
          </p:blipFill>
          <p:spPr>
            <a:xfrm>
              <a:off x="36360" y="1238400"/>
              <a:ext cx="45910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57320" y="1285920"/>
              <a:ext cx="3898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Нормативы обеспеченности ОУ средствами информат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Выноска со стрелкой вправо 5"/>
          <p:cNvGrpSpPr/>
          <p:nvPr/>
        </p:nvGrpSpPr>
        <p:grpSpPr>
          <a:xfrm>
            <a:off x="23760" y="3024360"/>
            <a:ext cx="4591080" cy="1126800"/>
            <a:chOff x="23760" y="3024360"/>
            <a:chExt cx="4591080" cy="1126800"/>
          </a:xfrm>
        </p:grpSpPr>
        <p:pic>
          <p:nvPicPr>
            <p:cNvPr id="322" name="Выноска со стрелкой вправо 5" descr=""/>
            <p:cNvPicPr/>
            <p:nvPr/>
          </p:nvPicPr>
          <p:blipFill>
            <a:blip r:embed="rId3"/>
            <a:stretch/>
          </p:blipFill>
          <p:spPr>
            <a:xfrm>
              <a:off x="23760" y="3024360"/>
              <a:ext cx="459108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42920" y="3071880"/>
              <a:ext cx="3898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Показатели мониторинга «Использование ИКТ в образовательном процессе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Группа 6" descr=""/>
          <p:cNvPicPr/>
          <p:nvPr/>
        </p:nvPicPr>
        <p:blipFill>
          <a:blip r:embed="rId4"/>
          <a:stretch/>
        </p:blipFill>
        <p:spPr>
          <a:xfrm>
            <a:off x="4578480" y="1182600"/>
            <a:ext cx="1841400" cy="1182600"/>
          </a:xfrm>
          <a:prstGeom prst="rect">
            <a:avLst/>
          </a:prstGeom>
          <a:ln w="0">
            <a:noFill/>
          </a:ln>
        </p:spPr>
      </p:pic>
      <p:pic>
        <p:nvPicPr>
          <p:cNvPr id="325" name="Группа 9" descr=""/>
          <p:cNvPicPr/>
          <p:nvPr/>
        </p:nvPicPr>
        <p:blipFill>
          <a:blip r:embed="rId5"/>
          <a:stretch/>
        </p:blipFill>
        <p:spPr>
          <a:xfrm>
            <a:off x="6443640" y="1109520"/>
            <a:ext cx="2425680" cy="1401840"/>
          </a:xfrm>
          <a:prstGeom prst="rect">
            <a:avLst/>
          </a:prstGeom>
          <a:ln w="0">
            <a:noFill/>
          </a:ln>
        </p:spPr>
      </p:pic>
      <p:pic>
        <p:nvPicPr>
          <p:cNvPr id="326" name="Группа 12" descr=""/>
          <p:cNvPicPr/>
          <p:nvPr/>
        </p:nvPicPr>
        <p:blipFill>
          <a:blip r:embed="rId6"/>
          <a:stretch/>
        </p:blipFill>
        <p:spPr>
          <a:xfrm>
            <a:off x="4578480" y="2955960"/>
            <a:ext cx="1841400" cy="1128600"/>
          </a:xfrm>
          <a:prstGeom prst="rect">
            <a:avLst/>
          </a:prstGeom>
          <a:ln w="0">
            <a:noFill/>
          </a:ln>
        </p:spPr>
      </p:pic>
      <p:pic>
        <p:nvPicPr>
          <p:cNvPr id="327" name="Группа 15" descr=""/>
          <p:cNvPicPr/>
          <p:nvPr/>
        </p:nvPicPr>
        <p:blipFill>
          <a:blip r:embed="rId7"/>
          <a:stretch/>
        </p:blipFill>
        <p:spPr>
          <a:xfrm>
            <a:off x="6443640" y="2535120"/>
            <a:ext cx="2425680" cy="1970280"/>
          </a:xfrm>
          <a:prstGeom prst="rect">
            <a:avLst/>
          </a:prstGeom>
          <a:ln w="0">
            <a:noFill/>
          </a:ln>
        </p:spPr>
      </p:pic>
      <p:sp>
        <p:nvSpPr>
          <p:cNvPr id="328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Выноска со стрелкой вправо 19"/>
          <p:cNvGrpSpPr/>
          <p:nvPr/>
        </p:nvGrpSpPr>
        <p:grpSpPr>
          <a:xfrm>
            <a:off x="23760" y="4443480"/>
            <a:ext cx="4591080" cy="1128600"/>
            <a:chOff x="23760" y="4443480"/>
            <a:chExt cx="4591080" cy="1128600"/>
          </a:xfrm>
        </p:grpSpPr>
        <p:pic>
          <p:nvPicPr>
            <p:cNvPr id="330" name="Выноска со стрелкой вправо 19" descr=""/>
            <p:cNvPicPr/>
            <p:nvPr/>
          </p:nvPicPr>
          <p:blipFill>
            <a:blip r:embed="rId8"/>
            <a:stretch/>
          </p:blipFill>
          <p:spPr>
            <a:xfrm>
              <a:off x="23760" y="4443480"/>
              <a:ext cx="45910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42920" y="4492800"/>
              <a:ext cx="3898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Методические рекомендации по оказанию государственных и муниципальных услу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Выноска со стрелкой вправо 20"/>
          <p:cNvGrpSpPr/>
          <p:nvPr/>
        </p:nvGrpSpPr>
        <p:grpSpPr>
          <a:xfrm>
            <a:off x="3670200" y="5589720"/>
            <a:ext cx="5241960" cy="1128600"/>
            <a:chOff x="3670200" y="5589720"/>
            <a:chExt cx="5241960" cy="1128600"/>
          </a:xfrm>
        </p:grpSpPr>
        <p:pic>
          <p:nvPicPr>
            <p:cNvPr id="333" name="Выноска со стрелкой вправо 20" descr=""/>
            <p:cNvPicPr/>
            <p:nvPr/>
          </p:nvPicPr>
          <p:blipFill>
            <a:blip r:embed="rId9"/>
            <a:stretch/>
          </p:blipFill>
          <p:spPr>
            <a:xfrm>
              <a:off x="3670200" y="5589720"/>
              <a:ext cx="524196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786120" y="5635800"/>
              <a:ext cx="45561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Проект Концепции единой информационной образовательной среды в Мурманской обла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2"/>
          <p:cNvGrpSpPr/>
          <p:nvPr/>
        </p:nvGrpSpPr>
        <p:grpSpPr>
          <a:xfrm>
            <a:off x="-60480" y="-36360"/>
            <a:ext cx="8045640" cy="969840"/>
            <a:chOff x="-60480" y="-36360"/>
            <a:chExt cx="8045640" cy="969840"/>
          </a:xfrm>
        </p:grpSpPr>
        <p:pic>
          <p:nvPicPr>
            <p:cNvPr id="336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80456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0"/>
              <a:ext cx="79297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br>
                <a:rPr sz="1800"/>
              </a:b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ЕРЕЧЕНЬ ГОСУДАРСТВЕННЫХ И МУНИЦИПАЛЬНЫХ УСЛУГ, ОКАЗЫВАЕМЫХ  В ЭЛЕКТРОННОМ ВИДЕ ОБЩЕОБРАЗОВАТЕЛЬНЫМИ  ОРГАНИЗАЦИЯМИ   МУРМАНСКОЙ ОБЛАСТИ </a:t>
              </a:r>
              <a:br>
                <a:rPr sz="1600"/>
              </a:b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E:\Green\Gosuslugi\avatar\avatar3.png"/>
          <p:cNvPicPr/>
          <p:nvPr/>
        </p:nvPicPr>
        <p:blipFill>
          <a:blip r:embed="rId3"/>
          <a:stretch/>
        </p:blipFill>
        <p:spPr>
          <a:xfrm>
            <a:off x="142920" y="1214280"/>
            <a:ext cx="952560" cy="8575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1"/>
          <p:cNvSpPr/>
          <p:nvPr/>
        </p:nvSpPr>
        <p:spPr>
          <a:xfrm>
            <a:off x="1285920" y="1143000"/>
            <a:ext cx="757224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5076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оставление информации об организации общедоступного и бесплатного дошкольного, начального общего, основного общего, среднего (полного) общего образования, а также дополнительного образования в общеобразовательных учреждениях, расположенных на территории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8"/>
          <p:cNvSpPr/>
          <p:nvPr/>
        </p:nvSpPr>
        <p:spPr>
          <a:xfrm>
            <a:off x="1285920" y="3130560"/>
            <a:ext cx="7572240" cy="36828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5076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числение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разовательное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0"/>
          <p:cNvSpPr/>
          <p:nvPr/>
        </p:nvSpPr>
        <p:spPr>
          <a:xfrm>
            <a:off x="1285920" y="4000680"/>
            <a:ext cx="7643880" cy="91692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5076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оставление информации о текущей успеваемости учащегося, ведение электронного дневника и электронного журнала успев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1"/>
          <p:cNvSpPr/>
          <p:nvPr/>
        </p:nvSpPr>
        <p:spPr>
          <a:xfrm>
            <a:off x="1357200" y="5286240"/>
            <a:ext cx="75726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  <a:effectLst>
            <a:outerShdw dist="50760" dir="5400000" blurRad="0" rotWithShape="0">
              <a:srgbClr val="000000">
                <a:alpha val="6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оставление информации об образовательных программах и учебных планах, рабочих программах учебных курсов, предметов, дисциплин (модулей), годовых календарных учебных граф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E:\Green\Gosuslugi\avatar\avatar3.png"/>
          <p:cNvPicPr/>
          <p:nvPr/>
        </p:nvPicPr>
        <p:blipFill>
          <a:blip r:embed="rId4"/>
          <a:stretch/>
        </p:blipFill>
        <p:spPr>
          <a:xfrm>
            <a:off x="142920" y="285768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E:\Green\Gosuslugi\avatar\avatar3.png"/>
          <p:cNvPicPr/>
          <p:nvPr/>
        </p:nvPicPr>
        <p:blipFill>
          <a:blip r:embed="rId5"/>
          <a:stretch/>
        </p:blipFill>
        <p:spPr>
          <a:xfrm>
            <a:off x="142920" y="40719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E:\Green\Gosuslugi\avatar\avatar3.png"/>
          <p:cNvPicPr/>
          <p:nvPr/>
        </p:nvPicPr>
        <p:blipFill>
          <a:blip r:embed="rId6"/>
          <a:stretch/>
        </p:blipFill>
        <p:spPr>
          <a:xfrm>
            <a:off x="142920" y="5429160"/>
            <a:ext cx="95256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28400" y="1143000"/>
            <a:ext cx="842940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ормирование в образовательных организациях  высокотехнологической ср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4"/>
          <p:cNvSpPr/>
          <p:nvPr/>
        </p:nvSpPr>
        <p:spPr>
          <a:xfrm>
            <a:off x="0" y="1143000"/>
            <a:ext cx="428760" cy="642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0" y="12142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0" y="2286000"/>
            <a:ext cx="428760" cy="716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0" y="3500280"/>
            <a:ext cx="428760" cy="1000440"/>
          </a:xfrm>
          <a:prstGeom prst="rect">
            <a:avLst/>
          </a:prstGeom>
          <a:solidFill>
            <a:srgbClr val="f9b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28760" y="2286000"/>
            <a:ext cx="8429400" cy="714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еспечение единого информационного образовательного пространства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428760" y="3500280"/>
            <a:ext cx="8429400" cy="100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масштабное использование в образовательном процессе и   управленческой деятельности ИКТ, электронного обучения, дистанционных образователь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0" y="0"/>
            <a:ext cx="7286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107932" dir="2700000" blurRad="0" rotWithShape="0">
              <a:srgbClr val="a50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СПЕКТИВНЫЕ НАПРАВЛЕНИЯ  РАЗВИТИЯ ИНФОРМАТИЗАЦИИ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428760" y="4857840"/>
            <a:ext cx="8429400" cy="1000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еспечение свободного доступа всех категорий граждан, представителей общественности, бизнес-сообществ к информации о деятельности образовательных организац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7"/>
          <p:cNvSpPr/>
          <p:nvPr/>
        </p:nvSpPr>
        <p:spPr>
          <a:xfrm>
            <a:off x="0" y="4857840"/>
            <a:ext cx="428760" cy="10000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9"/>
          <p:cNvSpPr/>
          <p:nvPr/>
        </p:nvSpPr>
        <p:spPr>
          <a:xfrm>
            <a:off x="214200" y="115920"/>
            <a:ext cx="6858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107932" dir="2700000" blurRad="0" rotWithShape="0">
              <a:srgbClr val="a50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цепция развития единой информационной образовательной среды в Российской Федерации (ЕИ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1"/>
          <p:cNvSpPr/>
          <p:nvPr/>
        </p:nvSpPr>
        <p:spPr>
          <a:xfrm>
            <a:off x="1033560" y="4027320"/>
            <a:ext cx="76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нцепция развития единой информационной образовательной среды в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Пятиугольник 54"/>
          <p:cNvGrpSpPr/>
          <p:nvPr/>
        </p:nvGrpSpPr>
        <p:grpSpPr>
          <a:xfrm>
            <a:off x="152280" y="2023920"/>
            <a:ext cx="4737240" cy="3998880"/>
            <a:chOff x="152280" y="2023920"/>
            <a:chExt cx="4737240" cy="3998880"/>
          </a:xfrm>
        </p:grpSpPr>
        <p:pic>
          <p:nvPicPr>
            <p:cNvPr id="364" name="Пятиугольник 54" descr=""/>
            <p:cNvPicPr/>
            <p:nvPr/>
          </p:nvPicPr>
          <p:blipFill>
            <a:blip r:embed="rId2"/>
            <a:stretch/>
          </p:blipFill>
          <p:spPr>
            <a:xfrm>
              <a:off x="152280" y="2023920"/>
              <a:ext cx="473724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14200" y="2060640"/>
              <a:ext cx="4270320" cy="38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Концепция внедрения современных ИКТ в общеобразовательных учреждениях Мурманской области «Электронная школа Мурманской области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на 2011-2013 г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Нашивка 55"/>
          <p:cNvGrpSpPr/>
          <p:nvPr/>
        </p:nvGrpSpPr>
        <p:grpSpPr>
          <a:xfrm>
            <a:off x="3938760" y="2017800"/>
            <a:ext cx="5033880" cy="4005000"/>
            <a:chOff x="3938760" y="2017800"/>
            <a:chExt cx="5033880" cy="4005000"/>
          </a:xfrm>
        </p:grpSpPr>
        <p:pic>
          <p:nvPicPr>
            <p:cNvPr id="367" name="Нашивка 55" descr=""/>
            <p:cNvPicPr/>
            <p:nvPr/>
          </p:nvPicPr>
          <p:blipFill>
            <a:blip r:embed="rId3"/>
            <a:stretch/>
          </p:blipFill>
          <p:spPr>
            <a:xfrm>
              <a:off x="3938760" y="2017800"/>
              <a:ext cx="503388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4807080" y="2057400"/>
              <a:ext cx="3301920" cy="38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Концепция развития единой информационной образовательной среды в Мурманской обла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на 2014-2020 г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2"/>
          <p:cNvSpPr/>
          <p:nvPr/>
        </p:nvSpPr>
        <p:spPr>
          <a:xfrm>
            <a:off x="140328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1-2013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5551920" y="604692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4-2020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142920" y="419040"/>
            <a:ext cx="714384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107932" dir="2700000" blurRad="0" rotWithShape="0">
              <a:srgbClr val="a50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цепция внедрения современных информационно-коммуникационных технологий в общеобразовательных учреждениях Мурманской области «Электронная школа Мурманской области» на 2011-2013 г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(утв. постановлением Правитель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урманской области от 24.06.2011 №315-П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3000240" y="1643040"/>
            <a:ext cx="80726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357120" y="3214800"/>
            <a:ext cx="2547720" cy="2999520"/>
            <a:chOff x="357120" y="3214800"/>
            <a:chExt cx="2547720" cy="2999520"/>
          </a:xfrm>
        </p:grpSpPr>
        <p:sp>
          <p:nvSpPr>
            <p:cNvPr id="100" name="AutoShape 14"/>
            <p:cNvSpPr/>
            <p:nvPr/>
          </p:nvSpPr>
          <p:spPr>
            <a:xfrm>
              <a:off x="357120" y="3398760"/>
              <a:ext cx="2547720" cy="2815560"/>
            </a:xfrm>
            <a:custGeom>
              <a:avLst/>
              <a:gdLst>
                <a:gd name="textAreaLeft" fmla="*/ 34920 w 2547720"/>
                <a:gd name="textAreaRight" fmla="*/ 2512800 w 2547720"/>
                <a:gd name="textAreaTop" fmla="*/ 34920 h 2815560"/>
                <a:gd name="textAreaBottom" fmla="*/ 2780640 h 2815560"/>
              </a:gdLst>
              <a:ahLst/>
              <a:rect l="textAreaLeft" t="textAreaTop" r="textAreaRight" b="textAreaBottom"/>
              <a:pathLst>
                <a:path w="21600" h="23870">
                  <a:moveTo>
                    <a:pt x="1013" y="0"/>
                  </a:moveTo>
                  <a:arcTo wR="1013" hR="1013" stAng="16200000" swAng="-5400000"/>
                  <a:lnTo>
                    <a:pt x="0" y="22857"/>
                  </a:lnTo>
                  <a:arcTo wR="1013" hR="1013" stAng="10800000" swAng="-5400000"/>
                  <a:lnTo>
                    <a:pt x="20587" y="2387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5"/>
            <p:cNvSpPr/>
            <p:nvPr/>
          </p:nvSpPr>
          <p:spPr>
            <a:xfrm>
              <a:off x="596880" y="3242160"/>
              <a:ext cx="2068200" cy="311760"/>
            </a:xfrm>
            <a:prstGeom prst="roundRect">
              <a:avLst>
                <a:gd name="adj" fmla="val 50000"/>
              </a:avLst>
            </a:prstGeom>
            <a:solidFill>
              <a:srgbClr val="953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16"/>
            <p:cNvSpPr/>
            <p:nvPr/>
          </p:nvSpPr>
          <p:spPr>
            <a:xfrm flipH="1">
              <a:off x="2466720" y="3320640"/>
              <a:ext cx="77760" cy="156600"/>
            </a:xfrm>
            <a:prstGeom prst="octagon">
              <a:avLst>
                <a:gd name="adj" fmla="val 231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7"/>
            <p:cNvSpPr/>
            <p:nvPr/>
          </p:nvSpPr>
          <p:spPr>
            <a:xfrm flipH="1">
              <a:off x="709560" y="3320640"/>
              <a:ext cx="79200" cy="156600"/>
            </a:xfrm>
            <a:prstGeom prst="octagon">
              <a:avLst>
                <a:gd name="adj" fmla="val 231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1285200" y="321480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МОУ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>
              <a:off x="441000" y="3684240"/>
              <a:ext cx="23688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 </a:t>
              </a: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Arial"/>
                </a:rPr>
                <a:t>Разработаны в муниципальных образования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Arial"/>
                </a:rPr>
                <a:t>Планы реализации Концеп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3500280" y="3214800"/>
            <a:ext cx="4929120" cy="2999880"/>
            <a:chOff x="3500280" y="3214800"/>
            <a:chExt cx="4929120" cy="2999880"/>
          </a:xfrm>
        </p:grpSpPr>
        <p:sp>
          <p:nvSpPr>
            <p:cNvPr id="107" name="AutoShape 14"/>
            <p:cNvSpPr/>
            <p:nvPr/>
          </p:nvSpPr>
          <p:spPr>
            <a:xfrm>
              <a:off x="3500280" y="3366360"/>
              <a:ext cx="4929120" cy="284832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5"/>
            <p:cNvSpPr/>
            <p:nvPr/>
          </p:nvSpPr>
          <p:spPr>
            <a:xfrm>
              <a:off x="3963960" y="3237480"/>
              <a:ext cx="4001400" cy="258120"/>
            </a:xfrm>
            <a:prstGeom prst="roundRect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6"/>
            <p:cNvSpPr/>
            <p:nvPr/>
          </p:nvSpPr>
          <p:spPr>
            <a:xfrm flipH="1">
              <a:off x="7580880" y="3301920"/>
              <a:ext cx="150120" cy="128880"/>
            </a:xfrm>
            <a:prstGeom prst="octagon">
              <a:avLst>
                <a:gd name="adj" fmla="val 23148"/>
              </a:avLst>
            </a:prstGeom>
            <a:solidFill>
              <a:srgbClr val="ffffff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7"/>
            <p:cNvSpPr/>
            <p:nvPr/>
          </p:nvSpPr>
          <p:spPr>
            <a:xfrm flipH="1">
              <a:off x="4181400" y="3301920"/>
              <a:ext cx="153000" cy="128880"/>
            </a:xfrm>
            <a:prstGeom prst="octagon">
              <a:avLst>
                <a:gd name="adj" fmla="val 23148"/>
              </a:avLst>
            </a:prstGeom>
            <a:solidFill>
              <a:srgbClr val="ffffff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5504040" y="3214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МОиН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3662280" y="3601440"/>
              <a:ext cx="4582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buClr>
                  <a:srgbClr val="000066"/>
                </a:buClr>
                <a:buFont typeface="Wingdings" charset="2"/>
                <a:buChar char="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 </a:t>
              </a:r>
              <a:r>
                <a:rPr b="1" lang="ru-RU" sz="1800" spc="-1" strike="noStrike">
                  <a:solidFill>
                    <a:srgbClr val="002060"/>
                  </a:solidFill>
                  <a:latin typeface="Arial"/>
                  <a:ea typeface="宋体"/>
                </a:rPr>
                <a:t>План мероприятий по реализации Концепции внедрения современных информационно-коммуникационных технологий в общеобразовательных учреждениях Мурманской области «Электронная школа Мурманской области» на 2011-2013, </a:t>
              </a:r>
              <a:r>
                <a:rPr b="1" i="1" lang="ru-RU" sz="1800" spc="-1" strike="noStrike">
                  <a:solidFill>
                    <a:srgbClr val="c00000"/>
                  </a:solidFill>
                  <a:latin typeface="Arial"/>
                  <a:ea typeface="宋体"/>
                </a:rPr>
                <a:t>утв. приказом МОиН МО от 19.08.2011   №15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Freeform 10"/>
          <p:cNvSpPr/>
          <p:nvPr/>
        </p:nvSpPr>
        <p:spPr>
          <a:xfrm>
            <a:off x="2786040" y="2857680"/>
            <a:ext cx="1149480" cy="928440"/>
          </a:xfrm>
          <a:prstGeom prst="pie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428760" y="3786120"/>
            <a:ext cx="8358120" cy="2824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предоставление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современных ЭОР,  информационных сервисов,  информационных систем и технологий обучения и воспитания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создание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условий для обновления форм, средств, технологий и методов реализации образовательных программ и услуг, преподавания учебных дисциплин и распространения знаний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совершенствование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условий для применения электронного обучения и дистанционных образователь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28400" y="142920"/>
            <a:ext cx="6786360" cy="3000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…информационная образовательная среда включает в себя электронные информационные ресурсы, электронные образовательные ресурсы, совокупность информационных технологий, телекоммуникационных технологий, соответствующих технологических средств и обеспечивающих освоение обучающимися образовательных программ в полном объеме независимо от места нахождения обучающихс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. 16, п. 3 Федерального закона «Об образовании в РФ»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10"/>
          <p:cNvSpPr/>
          <p:nvPr/>
        </p:nvSpPr>
        <p:spPr>
          <a:xfrm>
            <a:off x="428760" y="3429000"/>
            <a:ext cx="3092400" cy="3571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азначение  ЕИ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Rectangle 97"/>
          <p:cNvGrpSpPr/>
          <p:nvPr/>
        </p:nvGrpSpPr>
        <p:grpSpPr>
          <a:xfrm>
            <a:off x="-96840" y="23760"/>
            <a:ext cx="8210520" cy="1536840"/>
            <a:chOff x="-96840" y="23760"/>
            <a:chExt cx="8210520" cy="1536840"/>
          </a:xfrm>
        </p:grpSpPr>
        <p:pic>
          <p:nvPicPr>
            <p:cNvPr id="378" name="Rectangle 97" descr=""/>
            <p:cNvPicPr/>
            <p:nvPr/>
          </p:nvPicPr>
          <p:blipFill>
            <a:blip r:embed="rId1"/>
            <a:stretch/>
          </p:blipFill>
          <p:spPr>
            <a:xfrm>
              <a:off x="-96840" y="23760"/>
              <a:ext cx="821052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920" y="142920"/>
              <a:ext cx="77151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Цель 1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Повышение доступности качественного образования за счет применения электронного обучения  (ЭО) и дистанционных образовательных технологий (ДО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Rectangle 97"/>
          <p:cNvGrpSpPr/>
          <p:nvPr/>
        </p:nvGrpSpPr>
        <p:grpSpPr>
          <a:xfrm>
            <a:off x="-79200" y="1719360"/>
            <a:ext cx="9424800" cy="4986360"/>
            <a:chOff x="-79200" y="1719360"/>
            <a:chExt cx="9424800" cy="4986360"/>
          </a:xfrm>
        </p:grpSpPr>
        <p:pic>
          <p:nvPicPr>
            <p:cNvPr id="381" name="Rectangle 97" descr=""/>
            <p:cNvPicPr/>
            <p:nvPr/>
          </p:nvPicPr>
          <p:blipFill>
            <a:blip r:embed="rId2"/>
            <a:stretch/>
          </p:blipFill>
          <p:spPr>
            <a:xfrm>
              <a:off x="-79200" y="1719360"/>
              <a:ext cx="942480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49400" y="1833480"/>
              <a:ext cx="8994600" cy="47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Задача 1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Совершенствование условий для обеспечения доступности качественного образования за счет применения ЭО и ДО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Задача 2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Предоставление возможности учащимся выбора профиля обучения и индивидуальной образовательной траектории освоения образовательной программ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Задача 3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 Использование возможностей ЭО и ДОТ для оказания образовательных услуг обучающимся с высоким уровнем мотивации к обучению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Задача 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 Формирование информационной среды дополнительного профессионального образовани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Задача 5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Использование средств ЭО, ДОТ для получения  гражданами профессионального образования, повышения квалификации и профессиональной переподготовки на протяжении всей трудовой жизни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C:\Documents and Settings\yuriryab\Рабочий стол\Шаблон-Мурманск-2.jpg"/>
          <p:cNvPicPr/>
          <p:nvPr/>
        </p:nvPicPr>
        <p:blipFill>
          <a:blip r:embed="rId3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Rectangle 107"/>
          <p:cNvGrpSpPr/>
          <p:nvPr/>
        </p:nvGrpSpPr>
        <p:grpSpPr>
          <a:xfrm>
            <a:off x="-96840" y="23760"/>
            <a:ext cx="8197920" cy="1755720"/>
            <a:chOff x="-96840" y="23760"/>
            <a:chExt cx="8197920" cy="1755720"/>
          </a:xfrm>
        </p:grpSpPr>
        <p:pic>
          <p:nvPicPr>
            <p:cNvPr id="386" name="Rectangle 107" descr=""/>
            <p:cNvPicPr/>
            <p:nvPr/>
          </p:nvPicPr>
          <p:blipFill>
            <a:blip r:embed="rId1"/>
            <a:stretch/>
          </p:blipFill>
          <p:spPr>
            <a:xfrm>
              <a:off x="-96840" y="23760"/>
              <a:ext cx="81979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42920" y="142920"/>
              <a:ext cx="77151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Цель 2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Интеграция информационно-образовательных систем Министерства образования и науки Мурманской области, муниципальных органов, осуществляющих управление в сфере образования, и  образовательных организац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Rectangle 107"/>
          <p:cNvGrpSpPr/>
          <p:nvPr/>
        </p:nvGrpSpPr>
        <p:grpSpPr>
          <a:xfrm>
            <a:off x="-19080" y="2170080"/>
            <a:ext cx="9070920" cy="3895920"/>
            <a:chOff x="-19080" y="2170080"/>
            <a:chExt cx="9070920" cy="3895920"/>
          </a:xfrm>
        </p:grpSpPr>
        <p:pic>
          <p:nvPicPr>
            <p:cNvPr id="389" name="Rectangle 107" descr=""/>
            <p:cNvPicPr/>
            <p:nvPr/>
          </p:nvPicPr>
          <p:blipFill>
            <a:blip r:embed="rId2"/>
            <a:stretch/>
          </p:blipFill>
          <p:spPr>
            <a:xfrm>
              <a:off x="-19080" y="2170080"/>
              <a:ext cx="90709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14200" y="2286000"/>
              <a:ext cx="871560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а 6.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витие архитектуры региональной ЕИОС и ее интеграция с федеральной ЕИО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а 7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Автоматизация управленческой деятельности образовательных организациях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а 8.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вышение информационной открытости и прозрачности системы образов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дача 9.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еспечение учета детей, обучающихся в дошкольных, общеобразовательных, профессиональных образовательных организациях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C:\Documents and Settings\yuriryab\Рабочий стол\Шаблон-Мурманск-2.jpg"/>
          <p:cNvPicPr/>
          <p:nvPr/>
        </p:nvPicPr>
        <p:blipFill>
          <a:blip r:embed="rId3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http://im5-tub-ru.yandex.net/i?id=202009896-36-72&amp;n=21"/>
          <p:cNvPicPr/>
          <p:nvPr/>
        </p:nvPicPr>
        <p:blipFill>
          <a:blip r:embed="rId1"/>
          <a:stretch/>
        </p:blipFill>
        <p:spPr>
          <a:xfrm>
            <a:off x="3857760" y="2357280"/>
            <a:ext cx="1247760" cy="14288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2"/>
          <p:cNvSpPr/>
          <p:nvPr/>
        </p:nvSpPr>
        <p:spPr>
          <a:xfrm>
            <a:off x="0" y="108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и Концепции ЕИ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4857840" y="785880"/>
            <a:ext cx="3929040" cy="1865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едагогическим работника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еспечение условий для внедрения и эффективного использования новых информационных сервисов, систем и образовательных технологий, ЭОР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285840" y="766800"/>
            <a:ext cx="3929040" cy="19339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Обучающимся, студента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доступности качественного образования за счет применения электронного обучения, дистанционных образователь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0"/>
          <p:cNvSpPr/>
          <p:nvPr/>
        </p:nvSpPr>
        <p:spPr>
          <a:xfrm>
            <a:off x="7813800" y="4653000"/>
            <a:ext cx="42048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1"/>
          <p:cNvSpPr/>
          <p:nvPr/>
        </p:nvSpPr>
        <p:spPr>
          <a:xfrm flipV="1">
            <a:off x="7596360" y="5229360"/>
            <a:ext cx="1000080" cy="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2"/>
          <p:cNvSpPr/>
          <p:nvPr/>
        </p:nvSpPr>
        <p:spPr>
          <a:xfrm flipV="1">
            <a:off x="7021440" y="5238720"/>
            <a:ext cx="420840" cy="61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3"/>
          <p:cNvSpPr/>
          <p:nvPr/>
        </p:nvSpPr>
        <p:spPr>
          <a:xfrm>
            <a:off x="8388360" y="5011560"/>
            <a:ext cx="474480" cy="50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214200" y="3286080"/>
            <a:ext cx="3929040" cy="16182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Родител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открытости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4897440" y="3214800"/>
            <a:ext cx="3817800" cy="167256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Руководител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ИКТ в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4"/>
          <p:cNvSpPr/>
          <p:nvPr/>
        </p:nvSpPr>
        <p:spPr>
          <a:xfrm>
            <a:off x="1285920" y="5460840"/>
            <a:ext cx="6929280" cy="9475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Специалистам МОУО, Министер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ый мониторинг систем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405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408" name="Группа 5"/>
          <p:cNvGrpSpPr/>
          <p:nvPr/>
        </p:nvGrpSpPr>
        <p:grpSpPr>
          <a:xfrm>
            <a:off x="142920" y="1297080"/>
            <a:ext cx="8920080" cy="4392360"/>
            <a:chOff x="142920" y="1297080"/>
            <a:chExt cx="8920080" cy="4392360"/>
          </a:xfrm>
        </p:grpSpPr>
        <p:sp>
          <p:nvSpPr>
            <p:cNvPr id="409" name="TextBox 6"/>
            <p:cNvSpPr/>
            <p:nvPr/>
          </p:nvSpPr>
          <p:spPr>
            <a:xfrm>
              <a:off x="6205680" y="1297080"/>
              <a:ext cx="2857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17375e"/>
                  </a:solidFill>
                  <a:latin typeface="Tahoma"/>
                  <a:ea typeface="Tahoma"/>
                </a:rPr>
                <a:t>Региональный сегмен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Группа 6"/>
            <p:cNvGrpSpPr/>
            <p:nvPr/>
          </p:nvGrpSpPr>
          <p:grpSpPr>
            <a:xfrm>
              <a:off x="142920" y="1297080"/>
              <a:ext cx="8337600" cy="4392360"/>
              <a:chOff x="142920" y="1297080"/>
              <a:chExt cx="8337600" cy="4392360"/>
            </a:xfrm>
          </p:grpSpPr>
          <p:sp>
            <p:nvSpPr>
              <p:cNvPr id="411" name="Открывающая квадратная скобка 53"/>
              <p:cNvSpPr/>
              <p:nvPr/>
            </p:nvSpPr>
            <p:spPr>
              <a:xfrm flipH="1">
                <a:off x="6276600" y="1566720"/>
                <a:ext cx="1214280" cy="4056120"/>
              </a:xfrm>
              <a:custGeom>
                <a:avLst/>
                <a:gdLst>
                  <a:gd name="textAreaLeft" fmla="*/ 356760 w 1214280"/>
                  <a:gd name="textAreaRight" fmla="*/ 1214640 w 1214280"/>
                  <a:gd name="textAreaTop" fmla="*/ 459000 h 4056120"/>
                  <a:gd name="textAreaBottom" fmla="*/ 3597120 h 405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2446"/>
                      <a:pt x="0" y="4892"/>
                    </a:cubicBezTo>
                    <a:lnTo>
                      <a:pt x="0" y="16708"/>
                    </a:lnTo>
                    <a:cubicBezTo>
                      <a:pt x="0" y="19154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ounded Rectangle 12"/>
              <p:cNvSpPr/>
              <p:nvPr/>
            </p:nvSpPr>
            <p:spPr>
              <a:xfrm>
                <a:off x="6885360" y="1990800"/>
                <a:ext cx="1595160" cy="725400"/>
              </a:xfrm>
              <a:prstGeom prst="roundRect">
                <a:avLst>
                  <a:gd name="adj" fmla="val 6380"/>
                </a:avLst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Дистанционное дополнительное образ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ounded Rectangle 12"/>
              <p:cNvSpPr/>
              <p:nvPr/>
            </p:nvSpPr>
            <p:spPr>
              <a:xfrm>
                <a:off x="6885360" y="2778120"/>
                <a:ext cx="1595160" cy="720720"/>
              </a:xfrm>
              <a:prstGeom prst="roundRect">
                <a:avLst>
                  <a:gd name="adj" fmla="val 6380"/>
                </a:avLst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Электронное расписание / дневни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ounded Rectangle 12"/>
              <p:cNvSpPr/>
              <p:nvPr/>
            </p:nvSpPr>
            <p:spPr>
              <a:xfrm>
                <a:off x="230040" y="4748040"/>
                <a:ext cx="1447560" cy="502920"/>
              </a:xfrm>
              <a:prstGeom prst="roundRect">
                <a:avLst>
                  <a:gd name="adj" fmla="val 6380"/>
                </a:avLst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Запись в первый клас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Открывающая квадратная скобка 5"/>
              <p:cNvSpPr/>
              <p:nvPr/>
            </p:nvSpPr>
            <p:spPr>
              <a:xfrm>
                <a:off x="920520" y="1635120"/>
                <a:ext cx="1214280" cy="4054320"/>
              </a:xfrm>
              <a:custGeom>
                <a:avLst/>
                <a:gdLst>
                  <a:gd name="textAreaLeft" fmla="*/ 356760 w 1214280"/>
                  <a:gd name="textAreaRight" fmla="*/ 1214640 w 1214280"/>
                  <a:gd name="textAreaTop" fmla="*/ 459000 h 4054320"/>
                  <a:gd name="textAreaBottom" fmla="*/ 3595320 h 405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2447"/>
                      <a:pt x="0" y="4894"/>
                    </a:cubicBezTo>
                    <a:lnTo>
                      <a:pt x="0" y="16706"/>
                    </a:lnTo>
                    <a:cubicBezTo>
                      <a:pt x="0" y="19153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99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ounded Rectangle 12"/>
              <p:cNvSpPr/>
              <p:nvPr/>
            </p:nvSpPr>
            <p:spPr>
              <a:xfrm>
                <a:off x="230040" y="2690640"/>
                <a:ext cx="1447560" cy="831600"/>
              </a:xfrm>
              <a:prstGeom prst="roundRect">
                <a:avLst>
                  <a:gd name="adj" fmla="val 6380"/>
                </a:avLst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контингент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дет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ounded Rectangle 12"/>
              <p:cNvSpPr/>
              <p:nvPr/>
            </p:nvSpPr>
            <p:spPr>
              <a:xfrm>
                <a:off x="230040" y="3605040"/>
                <a:ext cx="1447560" cy="1066680"/>
              </a:xfrm>
              <a:prstGeom prst="roundRect">
                <a:avLst>
                  <a:gd name="adj" fmla="val 6380"/>
                </a:avLst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Электронные платежные систем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ounded Rectangle 12"/>
              <p:cNvSpPr/>
              <p:nvPr/>
            </p:nvSpPr>
            <p:spPr>
              <a:xfrm>
                <a:off x="206280" y="2266920"/>
                <a:ext cx="1449360" cy="350640"/>
              </a:xfrm>
              <a:prstGeom prst="roundRect">
                <a:avLst>
                  <a:gd name="adj" fmla="val 6380"/>
                </a:avLst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ЕСИ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Скругленный прямоугольник 17"/>
              <p:cNvSpPr/>
              <p:nvPr/>
            </p:nvSpPr>
            <p:spPr>
              <a:xfrm>
                <a:off x="2492280" y="1973160"/>
                <a:ext cx="3498840" cy="33112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99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ounded Rectangle 10"/>
              <p:cNvSpPr/>
              <p:nvPr/>
            </p:nvSpPr>
            <p:spPr>
              <a:xfrm>
                <a:off x="3125880" y="1701720"/>
                <a:ext cx="2116080" cy="954000"/>
              </a:xfrm>
              <a:prstGeom prst="roundRect">
                <a:avLst>
                  <a:gd name="adj" fmla="val 4565"/>
                </a:avLst>
              </a:prstGeom>
              <a:solidFill>
                <a:srgbClr val="ffffff"/>
              </a:solidFill>
              <a:ln w="12600">
                <a:solidFill>
                  <a:srgbClr val="468ac5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20"/>
              <p:cNvSpPr/>
              <p:nvPr/>
            </p:nvSpPr>
            <p:spPr>
              <a:xfrm>
                <a:off x="142920" y="1297080"/>
                <a:ext cx="23493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17375e"/>
                    </a:solidFill>
                    <a:latin typeface="Tahoma"/>
                    <a:ea typeface="Tahoma"/>
                  </a:rPr>
                  <a:t>Электронное правительство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Box 21"/>
              <p:cNvSpPr/>
              <p:nvPr/>
            </p:nvSpPr>
            <p:spPr>
              <a:xfrm>
                <a:off x="2820960" y="1297080"/>
                <a:ext cx="2955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17375e"/>
                    </a:solidFill>
                    <a:latin typeface="Tahoma"/>
                    <a:ea typeface="Tahoma"/>
                  </a:rPr>
                  <a:t>Федеральный сегмент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"/>
              <p:cNvSpPr/>
              <p:nvPr/>
            </p:nvSpPr>
            <p:spPr>
              <a:xfrm>
                <a:off x="142920" y="2918880"/>
                <a:ext cx="15120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3"/>
              <p:cNvSpPr/>
              <p:nvPr/>
            </p:nvSpPr>
            <p:spPr>
              <a:xfrm>
                <a:off x="6885360" y="3560760"/>
                <a:ext cx="1595160" cy="531720"/>
              </a:xfrm>
              <a:prstGeom prst="rect">
                <a:avLst/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Комплектование груп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3"/>
              <p:cNvSpPr/>
              <p:nvPr/>
            </p:nvSpPr>
            <p:spPr>
              <a:xfrm>
                <a:off x="6885360" y="4157640"/>
                <a:ext cx="1595160" cy="750600"/>
              </a:xfrm>
              <a:prstGeom prst="rect">
                <a:avLst/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Внутренняя и внешняя отчет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3"/>
              <p:cNvSpPr/>
              <p:nvPr/>
            </p:nvSpPr>
            <p:spPr>
              <a:xfrm>
                <a:off x="3206160" y="1702440"/>
                <a:ext cx="19285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2e5f9e"/>
                    </a:solidFill>
                    <a:latin typeface="Arial"/>
                    <a:ea typeface="Calibri"/>
                  </a:rPr>
                  <a:t>Информационная аналитическая система принятия решени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ounded Rectangle 10"/>
              <p:cNvSpPr/>
              <p:nvPr/>
            </p:nvSpPr>
            <p:spPr>
              <a:xfrm>
                <a:off x="3125880" y="5081760"/>
                <a:ext cx="2143080" cy="338040"/>
              </a:xfrm>
              <a:prstGeom prst="roundRect">
                <a:avLst>
                  <a:gd name="adj" fmla="val 4565"/>
                </a:avLst>
              </a:prstGeom>
              <a:solidFill>
                <a:srgbClr val="ffffff"/>
              </a:solidFill>
              <a:ln w="12600">
                <a:solidFill>
                  <a:srgbClr val="468ac5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2e5f9e"/>
                    </a:solidFill>
                    <a:latin typeface="Calibri"/>
                    <a:ea typeface="Calibri"/>
                  </a:rPr>
                  <a:t>Социальная се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ounded Rectangle 10"/>
              <p:cNvSpPr/>
              <p:nvPr/>
            </p:nvSpPr>
            <p:spPr>
              <a:xfrm>
                <a:off x="5268960" y="2843280"/>
                <a:ext cx="1589040" cy="960120"/>
              </a:xfrm>
              <a:prstGeom prst="roundRect">
                <a:avLst>
                  <a:gd name="adj" fmla="val 4565"/>
                </a:avLst>
              </a:prstGeom>
              <a:solidFill>
                <a:srgbClr val="ffffff"/>
              </a:solidFill>
              <a:ln w="12600">
                <a:solidFill>
                  <a:srgbClr val="468ac5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e5f9e"/>
                    </a:solidFill>
                    <a:latin typeface="Tahoma"/>
                    <a:ea typeface="Tahoma"/>
                  </a:rPr>
                  <a:t>Система создания/ распространения  контент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ounded Rectangle 10"/>
              <p:cNvSpPr/>
              <p:nvPr/>
            </p:nvSpPr>
            <p:spPr>
              <a:xfrm>
                <a:off x="5268960" y="3875040"/>
                <a:ext cx="1508040" cy="780840"/>
              </a:xfrm>
              <a:prstGeom prst="roundRect">
                <a:avLst>
                  <a:gd name="adj" fmla="val 4565"/>
                </a:avLst>
              </a:prstGeom>
              <a:solidFill>
                <a:srgbClr val="ffffff"/>
              </a:solidFill>
              <a:ln w="12600">
                <a:solidFill>
                  <a:srgbClr val="468ac5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e5f9e"/>
                    </a:solidFill>
                    <a:latin typeface="Tahoma"/>
                    <a:ea typeface="Tahoma"/>
                  </a:rPr>
                  <a:t>Система дистанционного  образован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ounded Rectangle 10"/>
              <p:cNvSpPr/>
              <p:nvPr/>
            </p:nvSpPr>
            <p:spPr>
              <a:xfrm>
                <a:off x="1778040" y="2843280"/>
                <a:ext cx="1347840" cy="966600"/>
              </a:xfrm>
              <a:prstGeom prst="roundRect">
                <a:avLst>
                  <a:gd name="adj" fmla="val 4565"/>
                </a:avLst>
              </a:prstGeom>
              <a:solidFill>
                <a:srgbClr val="ffffff"/>
              </a:solidFill>
              <a:ln w="12600">
                <a:solidFill>
                  <a:srgbClr val="468ac5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e5f9e"/>
                    </a:solidFill>
                    <a:latin typeface="Tahoma"/>
                    <a:ea typeface="Tahoma"/>
                  </a:rPr>
                  <a:t>Интернет-порт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2e5f9e"/>
                    </a:solidFill>
                    <a:latin typeface="Tahoma"/>
                    <a:ea typeface="Tahoma"/>
                  </a:rPr>
                  <a:t>(личные кабинеты пользователей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ounded Rectangle 10"/>
              <p:cNvSpPr/>
              <p:nvPr/>
            </p:nvSpPr>
            <p:spPr>
              <a:xfrm>
                <a:off x="1778040" y="3908520"/>
                <a:ext cx="1347840" cy="747720"/>
              </a:xfrm>
              <a:prstGeom prst="roundRect">
                <a:avLst>
                  <a:gd name="adj" fmla="val 4565"/>
                </a:avLst>
              </a:prstGeom>
              <a:solidFill>
                <a:srgbClr val="ffffff"/>
              </a:solidFill>
              <a:ln w="12600">
                <a:solidFill>
                  <a:srgbClr val="468ac5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2e5f9e"/>
                    </a:solidFill>
                    <a:latin typeface="Tahoma"/>
                    <a:ea typeface="Tahoma"/>
                  </a:rPr>
                  <a:t>Система поддержки пользовател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Скругленный прямоугольник 33"/>
              <p:cNvSpPr/>
              <p:nvPr/>
            </p:nvSpPr>
            <p:spPr>
              <a:xfrm>
                <a:off x="3125880" y="2765520"/>
                <a:ext cx="2143080" cy="1996920"/>
              </a:xfrm>
              <a:prstGeom prst="roundRect">
                <a:avLst>
                  <a:gd name="adj" fmla="val 16667"/>
                </a:avLst>
              </a:prstGeom>
              <a:solidFill>
                <a:srgbClr val="254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700" spc="-1" strike="noStrike">
                    <a:solidFill>
                      <a:srgbClr val="ffffff"/>
                    </a:solidFill>
                    <a:latin typeface="Calibri"/>
                  </a:rPr>
                  <a:t>Электронные библиотеки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700" spc="-1" strike="noStrike">
                    <a:solidFill>
                      <a:srgbClr val="ffffff"/>
                    </a:solidFill>
                    <a:latin typeface="Calibri"/>
                  </a:rPr>
                  <a:t>Электронные образовательные ресурсы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РХИТЕКТУРА ЕИО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Скругленный прямоугольник 74"/>
          <p:cNvSpPr/>
          <p:nvPr/>
        </p:nvSpPr>
        <p:spPr>
          <a:xfrm>
            <a:off x="1928880" y="928800"/>
            <a:ext cx="6357960" cy="5643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8440">
            <a:solidFill>
              <a:srgbClr val="000099"/>
            </a:solidFill>
            <a:prstDash val="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437" name="TextBox 6"/>
          <p:cNvSpPr/>
          <p:nvPr/>
        </p:nvSpPr>
        <p:spPr>
          <a:xfrm>
            <a:off x="3786120" y="500040"/>
            <a:ext cx="2857680" cy="322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ahoma"/>
                <a:ea typeface="Tahoma"/>
              </a:rPr>
              <a:t>Региональный сегмен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ounded Rectangle 12"/>
          <p:cNvSpPr/>
          <p:nvPr/>
        </p:nvSpPr>
        <p:spPr>
          <a:xfrm>
            <a:off x="2571840" y="1785960"/>
            <a:ext cx="1714320" cy="868320"/>
          </a:xfrm>
          <a:prstGeom prst="roundRect">
            <a:avLst>
              <a:gd name="adj" fmla="val 638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АИС «Электронный детский са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ounded Rectangle 12"/>
          <p:cNvSpPr/>
          <p:nvPr/>
        </p:nvSpPr>
        <p:spPr>
          <a:xfrm>
            <a:off x="2619360" y="2857680"/>
            <a:ext cx="1666800" cy="720720"/>
          </a:xfrm>
          <a:prstGeom prst="roundRect">
            <a:avLst>
              <a:gd name="adj" fmla="val 638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АИС «Электрон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ounded Rectangle 12"/>
          <p:cNvSpPr/>
          <p:nvPr/>
        </p:nvSpPr>
        <p:spPr>
          <a:xfrm>
            <a:off x="214200" y="1357200"/>
            <a:ext cx="1521000" cy="831960"/>
          </a:xfrm>
          <a:prstGeom prst="roundRect">
            <a:avLst>
              <a:gd name="adj" fmla="val 638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ahoma"/>
              </a:rPr>
              <a:t>Электронная очере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142920" y="2917800"/>
            <a:ext cx="1512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2619360" y="3803760"/>
            <a:ext cx="1595520" cy="8607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АИС «Электронное УСП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2643120" y="5286240"/>
            <a:ext cx="1595520" cy="8607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Мониторинг системы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33"/>
          <p:cNvSpPr/>
          <p:nvPr/>
        </p:nvSpPr>
        <p:spPr>
          <a:xfrm>
            <a:off x="4643280" y="2857680"/>
            <a:ext cx="2143440" cy="7142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Региональное хранилище ЦО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РХИТЕКТУРА ЕИОС в Мурманской обла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Прямоугольник 35"/>
          <p:cNvSpPr/>
          <p:nvPr/>
        </p:nvSpPr>
        <p:spPr>
          <a:xfrm>
            <a:off x="2428920" y="1285920"/>
            <a:ext cx="2071800" cy="3571920"/>
          </a:xfrm>
          <a:prstGeom prst="rect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36"/>
          <p:cNvSpPr/>
          <p:nvPr/>
        </p:nvSpPr>
        <p:spPr>
          <a:xfrm>
            <a:off x="2643120" y="150012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Базовые ИС 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ounded Rectangle 12"/>
          <p:cNvSpPr/>
          <p:nvPr/>
        </p:nvSpPr>
        <p:spPr>
          <a:xfrm>
            <a:off x="214200" y="2525760"/>
            <a:ext cx="1521000" cy="831960"/>
          </a:xfrm>
          <a:prstGeom prst="roundRect">
            <a:avLst>
              <a:gd name="adj" fmla="val 638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ahoma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ahoma"/>
              </a:rPr>
              <a:t>континг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ahoma"/>
              </a:rPr>
              <a:t>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Прямая со стрелкой 40"/>
          <p:cNvCxnSpPr>
            <a:stCxn id="438" idx="1"/>
            <a:endCxn id="440" idx="3"/>
          </p:cNvCxnSpPr>
          <p:nvPr/>
        </p:nvCxnSpPr>
        <p:spPr>
          <a:xfrm flipH="1" flipV="1">
            <a:off x="1734840" y="1772640"/>
            <a:ext cx="837360" cy="44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0" name="Прямая со стрелкой 42"/>
          <p:cNvCxnSpPr>
            <a:stCxn id="438" idx="1"/>
            <a:endCxn id="448" idx="3"/>
          </p:cNvCxnSpPr>
          <p:nvPr/>
        </p:nvCxnSpPr>
        <p:spPr>
          <a:xfrm flipH="1">
            <a:off x="1734840" y="2219400"/>
            <a:ext cx="837360" cy="72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1" name="Прямая со стрелкой 44"/>
          <p:cNvCxnSpPr>
            <a:stCxn id="439" idx="1"/>
            <a:endCxn id="448" idx="3"/>
          </p:cNvCxnSpPr>
          <p:nvPr/>
        </p:nvCxnSpPr>
        <p:spPr>
          <a:xfrm flipH="1" flipV="1">
            <a:off x="1734840" y="2941200"/>
            <a:ext cx="884880" cy="27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2" name="Прямая со стрелкой 46"/>
          <p:cNvCxnSpPr>
            <a:stCxn id="442" idx="1"/>
            <a:endCxn id="448" idx="3"/>
          </p:cNvCxnSpPr>
          <p:nvPr/>
        </p:nvCxnSpPr>
        <p:spPr>
          <a:xfrm flipH="1" flipV="1">
            <a:off x="1734840" y="2941200"/>
            <a:ext cx="884880" cy="12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3" name="Rounded Rectangle 12"/>
          <p:cNvSpPr/>
          <p:nvPr/>
        </p:nvSpPr>
        <p:spPr>
          <a:xfrm>
            <a:off x="142920" y="4000680"/>
            <a:ext cx="1592280" cy="1143000"/>
          </a:xfrm>
          <a:prstGeom prst="roundRect">
            <a:avLst>
              <a:gd name="adj" fmla="val 638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Tahoma"/>
              </a:rPr>
              <a:t>Информационная аналитическая систем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кругленный прямоугольник 48"/>
          <p:cNvSpPr/>
          <p:nvPr/>
        </p:nvSpPr>
        <p:spPr>
          <a:xfrm>
            <a:off x="4643280" y="5146560"/>
            <a:ext cx="2143440" cy="1282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Информационные образовательные ресурсы регио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(в т.ч. сайты ОО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Прямая со стрелкой 54"/>
          <p:cNvCxnSpPr>
            <a:stCxn id="443" idx="1"/>
            <a:endCxn id="453" idx="2"/>
          </p:cNvCxnSpPr>
          <p:nvPr/>
        </p:nvCxnSpPr>
        <p:spPr>
          <a:xfrm flipH="1" flipV="1">
            <a:off x="937800" y="5142960"/>
            <a:ext cx="1705680" cy="564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6" name="TextBox 55"/>
          <p:cNvSpPr/>
          <p:nvPr/>
        </p:nvSpPr>
        <p:spPr>
          <a:xfrm>
            <a:off x="142920" y="785880"/>
            <a:ext cx="2000160" cy="322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ahoma"/>
                <a:ea typeface="Tahoma"/>
              </a:rPr>
              <a:t>Федеральные И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кругленный прямоугольник 57"/>
          <p:cNvSpPr/>
          <p:nvPr/>
        </p:nvSpPr>
        <p:spPr>
          <a:xfrm>
            <a:off x="4643280" y="3714840"/>
            <a:ext cx="2143440" cy="5619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Электронные библиоте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кругленный прямоугольник 59"/>
          <p:cNvSpPr/>
          <p:nvPr/>
        </p:nvSpPr>
        <p:spPr>
          <a:xfrm>
            <a:off x="4643280" y="1214280"/>
            <a:ext cx="2143440" cy="14972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ортал «Дистанционное образование в Мурманской област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ounded Rectangle 12"/>
          <p:cNvSpPr/>
          <p:nvPr/>
        </p:nvSpPr>
        <p:spPr>
          <a:xfrm>
            <a:off x="7143840" y="4143240"/>
            <a:ext cx="1643040" cy="1143000"/>
          </a:xfrm>
          <a:prstGeom prst="roundRect">
            <a:avLst>
              <a:gd name="adj" fmla="val 6380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Tahoma"/>
              </a:rPr>
              <a:t>ИОС образовательной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кругленный прямоугольник 65"/>
          <p:cNvSpPr/>
          <p:nvPr/>
        </p:nvSpPr>
        <p:spPr>
          <a:xfrm>
            <a:off x="4714920" y="4438800"/>
            <a:ext cx="2143080" cy="5619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Ведомственные 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Прямая со стрелкой 67"/>
          <p:cNvCxnSpPr>
            <a:stCxn id="460" idx="1"/>
            <a:endCxn id="443" idx="3"/>
          </p:cNvCxnSpPr>
          <p:nvPr/>
        </p:nvCxnSpPr>
        <p:spPr>
          <a:xfrm flipH="1">
            <a:off x="4237920" y="4718520"/>
            <a:ext cx="477000" cy="98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2" name="Прямая со стрелкой 69"/>
          <p:cNvCxnSpPr>
            <a:stCxn id="454" idx="1"/>
            <a:endCxn id="443" idx="3"/>
          </p:cNvCxnSpPr>
          <p:nvPr/>
        </p:nvCxnSpPr>
        <p:spPr>
          <a:xfrm flipH="1" flipV="1">
            <a:off x="4238280" y="5706720"/>
            <a:ext cx="405360" cy="81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3" name="Rounded Rectangle 12"/>
          <p:cNvSpPr/>
          <p:nvPr/>
        </p:nvSpPr>
        <p:spPr>
          <a:xfrm>
            <a:off x="7000920" y="1571760"/>
            <a:ext cx="1857240" cy="1143000"/>
          </a:xfrm>
          <a:prstGeom prst="roundRect">
            <a:avLst>
              <a:gd name="adj" fmla="val 6380"/>
            </a:avLst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Tahoma"/>
              </a:rPr>
              <a:t>Профессиональные со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Заголовок 1"/>
          <p:cNvSpPr/>
          <p:nvPr/>
        </p:nvSpPr>
        <p:spPr>
          <a:xfrm>
            <a:off x="428760" y="147600"/>
            <a:ext cx="73468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жидаемые результаты реализации Концеп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522360" y="1000080"/>
            <a:ext cx="8421480" cy="62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вершенствование нормативно-правовой базы информат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стемы  образования 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Овал 11"/>
          <p:cNvSpPr/>
          <p:nvPr/>
        </p:nvSpPr>
        <p:spPr>
          <a:xfrm>
            <a:off x="254160" y="1071720"/>
            <a:ext cx="498240" cy="480960"/>
          </a:xfrm>
          <a:prstGeom prst="ellipse">
            <a:avLst/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2"/>
          <p:cNvSpPr/>
          <p:nvPr/>
        </p:nvSpPr>
        <p:spPr>
          <a:xfrm>
            <a:off x="522360" y="1785960"/>
            <a:ext cx="842148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ормирование в образовательных организациях высокотехнол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еды  для применения ЭО и Д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18"/>
          <p:cNvSpPr/>
          <p:nvPr/>
        </p:nvSpPr>
        <p:spPr>
          <a:xfrm>
            <a:off x="254160" y="1857240"/>
            <a:ext cx="498240" cy="481320"/>
          </a:xfrm>
          <a:prstGeom prst="ellipse">
            <a:avLst/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9"/>
          <p:cNvSpPr/>
          <p:nvPr/>
        </p:nvSpPr>
        <p:spPr>
          <a:xfrm>
            <a:off x="530280" y="2571840"/>
            <a:ext cx="842148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еспечение единого информационного образовательного простран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урм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20"/>
          <p:cNvSpPr/>
          <p:nvPr/>
        </p:nvSpPr>
        <p:spPr>
          <a:xfrm>
            <a:off x="260280" y="2643120"/>
            <a:ext cx="498600" cy="482760"/>
          </a:xfrm>
          <a:prstGeom prst="ellipse">
            <a:avLst/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21"/>
          <p:cNvSpPr/>
          <p:nvPr/>
        </p:nvSpPr>
        <p:spPr>
          <a:xfrm>
            <a:off x="522360" y="3429000"/>
            <a:ext cx="8421480" cy="76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еспечение свободного доступа всех категорий гражд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ставителей общественности, бизнес-сообществ к информации 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ятельности  образователь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Овал 22"/>
          <p:cNvSpPr/>
          <p:nvPr/>
        </p:nvSpPr>
        <p:spPr>
          <a:xfrm>
            <a:off x="254160" y="3571920"/>
            <a:ext cx="498240" cy="482400"/>
          </a:xfrm>
          <a:prstGeom prst="ellipse">
            <a:avLst/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3"/>
          <p:cNvSpPr/>
          <p:nvPr/>
        </p:nvSpPr>
        <p:spPr>
          <a:xfrm>
            <a:off x="530280" y="4429080"/>
            <a:ext cx="8421480" cy="62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вышение ИКТ-компетентности всех участников 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Овал 24"/>
          <p:cNvSpPr/>
          <p:nvPr/>
        </p:nvSpPr>
        <p:spPr>
          <a:xfrm>
            <a:off x="260280" y="4500720"/>
            <a:ext cx="498600" cy="480960"/>
          </a:xfrm>
          <a:prstGeom prst="ellipse">
            <a:avLst/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5"/>
          <p:cNvSpPr/>
          <p:nvPr/>
        </p:nvSpPr>
        <p:spPr>
          <a:xfrm>
            <a:off x="530280" y="5214960"/>
            <a:ext cx="842148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вершенствование сетевого взаимодействия, создание педагогических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ств для распространения лучших образовательных прак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вал 26"/>
          <p:cNvSpPr/>
          <p:nvPr/>
        </p:nvSpPr>
        <p:spPr>
          <a:xfrm>
            <a:off x="260280" y="5286240"/>
            <a:ext cx="498600" cy="482760"/>
          </a:xfrm>
          <a:prstGeom prst="ellipse">
            <a:avLst/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-2700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478" name="Oval 4"/>
          <p:cNvSpPr/>
          <p:nvPr/>
        </p:nvSpPr>
        <p:spPr>
          <a:xfrm>
            <a:off x="8686800" y="6656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6"/>
          <p:cNvSpPr/>
          <p:nvPr/>
        </p:nvSpPr>
        <p:spPr>
          <a:xfrm>
            <a:off x="0" y="0"/>
            <a:ext cx="428760" cy="7160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7"/>
          <p:cNvSpPr/>
          <p:nvPr/>
        </p:nvSpPr>
        <p:spPr>
          <a:xfrm>
            <a:off x="507960" y="5929200"/>
            <a:ext cx="8421840" cy="6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единого банка данных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27"/>
          <p:cNvSpPr/>
          <p:nvPr/>
        </p:nvSpPr>
        <p:spPr>
          <a:xfrm>
            <a:off x="285840" y="6018120"/>
            <a:ext cx="498240" cy="482760"/>
          </a:xfrm>
          <a:prstGeom prst="ellipse">
            <a:avLst/>
          </a:prstGeom>
          <a:gradFill rotWithShape="0">
            <a:gsLst>
              <a:gs pos="0">
                <a:srgbClr val="edfff8"/>
              </a:gs>
              <a:gs pos="100000">
                <a:srgbClr val="c3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785880" y="1285920"/>
            <a:ext cx="7500960" cy="41799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285840" y="5638680"/>
            <a:ext cx="8591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ю за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6588000" y="1773360"/>
            <a:ext cx="2556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063"/>
              </a:spcBef>
              <a:spcAft>
                <a:spcPts val="4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0" y="0"/>
            <a:ext cx="727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5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7485120" y="584532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488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56C0-E0EF-4FC2-B92E-F23831588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5" descr=""/>
          <p:cNvPicPr/>
          <p:nvPr/>
        </p:nvPicPr>
        <p:blipFill>
          <a:blip r:embed="rId3"/>
          <a:stretch/>
        </p:blipFill>
        <p:spPr>
          <a:xfrm>
            <a:off x="500040" y="2286000"/>
            <a:ext cx="717480" cy="733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1357200" y="1357200"/>
            <a:ext cx="735804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Тел.: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2-61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E-mail: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stovachenko@gov-murma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Интерн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ob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rma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edu-murma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6" descr=""/>
          <p:cNvPicPr/>
          <p:nvPr/>
        </p:nvPicPr>
        <p:blipFill>
          <a:blip r:embed="rId4"/>
          <a:stretch/>
        </p:blipFill>
        <p:spPr>
          <a:xfrm>
            <a:off x="571680" y="3429000"/>
            <a:ext cx="803160" cy="7700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5"/>
          <a:stretch/>
        </p:blipFill>
        <p:spPr>
          <a:xfrm>
            <a:off x="547560" y="4286160"/>
            <a:ext cx="881280" cy="10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3"/>
          <p:cNvSpPr/>
          <p:nvPr/>
        </p:nvSpPr>
        <p:spPr>
          <a:xfrm>
            <a:off x="428760" y="3357720"/>
            <a:ext cx="850104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0,25×</a:t>
            </a:r>
            <a:r>
              <a:rPr b="1" lang="en-US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0,5×</a:t>
            </a:r>
            <a:r>
              <a:rPr b="1" lang="en-US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0,125×</a:t>
            </a:r>
            <a:r>
              <a:rPr b="1" lang="en-US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0,125×</a:t>
            </a:r>
            <a:r>
              <a:rPr b="1" lang="en-US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</a:t>
            </a:r>
            <a:r>
              <a:rPr b="1" lang="ru-RU" sz="2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г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1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доля образовательных организаций, в которых функционирует </a:t>
            </a:r>
            <a:r>
              <a:rPr b="0" lang="ru-RU" sz="1400" spc="-1" strike="noStrike" u="sng">
                <a:solidFill>
                  <a:srgbClr val="0070c0"/>
                </a:solidFill>
                <a:uFillTx/>
                <a:latin typeface="Arial Unicode MS"/>
                <a:ea typeface="Arial Unicode MS"/>
              </a:rPr>
              <a:t>единая локальная вычислительная сеть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рассчитывается в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доля образовательных  организаций, имеющих доступ к сети 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Интернет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о скоростью 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ыше 2 Мбит/с 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3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доля 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К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используемых в образовательном процессе образовательных организаций, 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дключенных к сети Интернет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рассчитывается в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4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доля образовательных организаций, имеющих 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омпьютерные классы в составе не менее 7 персональных компьютеров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работающих </a:t>
            </a:r>
            <a:r>
              <a:rPr b="0" lang="ru-RU" sz="1400" spc="-1" strike="noStrike" u="sng">
                <a:solidFill>
                  <a:srgbClr val="0070c0"/>
                </a:solidFill>
                <a:uFillTx/>
                <a:latin typeface="Arial Unicode MS"/>
                <a:ea typeface="Arial Unicode MS"/>
              </a:rPr>
              <a:t>в единой локальной вычислительной сети с широкополосным доступом в Интернет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рассчитывается в %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15"/>
          <p:cNvSpPr/>
          <p:nvPr/>
        </p:nvSpPr>
        <p:spPr>
          <a:xfrm flipH="1">
            <a:off x="8857800" y="1928880"/>
            <a:ext cx="1800" cy="993600"/>
          </a:xfrm>
          <a:prstGeom prst="line">
            <a:avLst/>
          </a:prstGeom>
          <a:ln cap="rnd" w="38160">
            <a:solidFill>
              <a:srgbClr val="00b05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16"/>
          <p:cNvSpPr/>
          <p:nvPr/>
        </p:nvSpPr>
        <p:spPr>
          <a:xfrm>
            <a:off x="635040" y="1870200"/>
            <a:ext cx="6480" cy="1201680"/>
          </a:xfrm>
          <a:prstGeom prst="line">
            <a:avLst/>
          </a:prstGeom>
          <a:ln cap="rnd" w="38160">
            <a:solidFill>
              <a:srgbClr val="00b05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497" name="TextBox 5"/>
          <p:cNvSpPr/>
          <p:nvPr/>
        </p:nvSpPr>
        <p:spPr>
          <a:xfrm>
            <a:off x="0" y="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571680" y="14292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П «МО Развитие образования» на 2014-2020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7"/>
          <p:cNvSpPr/>
          <p:nvPr/>
        </p:nvSpPr>
        <p:spPr>
          <a:xfrm>
            <a:off x="0" y="0"/>
            <a:ext cx="428760" cy="7160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0"/>
          <p:cNvSpPr/>
          <p:nvPr/>
        </p:nvSpPr>
        <p:spPr>
          <a:xfrm>
            <a:off x="571680" y="642960"/>
            <a:ext cx="7643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7933c"/>
                </a:solidFill>
                <a:latin typeface="Arial Unicode MS"/>
                <a:ea typeface="Arial Unicode MS"/>
              </a:rPr>
              <a:t>Под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«Развитие современной инфраструктуры системы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7933c"/>
                </a:solidFill>
                <a:latin typeface="Arial Unicode MS"/>
                <a:ea typeface="Arial Unicode MS"/>
              </a:rPr>
              <a:t>Задача 3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«Развитие современной информационной и телекоммуникационной инфраструктуры системы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право 13"/>
          <p:cNvSpPr/>
          <p:nvPr/>
        </p:nvSpPr>
        <p:spPr>
          <a:xfrm>
            <a:off x="428760" y="2205000"/>
            <a:ext cx="8501040" cy="1152720"/>
          </a:xfrm>
          <a:prstGeom prst="righ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Доля образовательных организаций, в  которых сформирована  высокотехнологичная среда для  применения электронного обучения и  дистанционных образовательных 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34"/>
          <p:cNvSpPr/>
          <p:nvPr/>
        </p:nvSpPr>
        <p:spPr>
          <a:xfrm>
            <a:off x="8300160" y="1558800"/>
            <a:ext cx="70488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4"/>
          <p:cNvSpPr/>
          <p:nvPr/>
        </p:nvSpPr>
        <p:spPr>
          <a:xfrm>
            <a:off x="281880" y="1500120"/>
            <a:ext cx="7048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785880" y="2000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5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9"/>
          <p:cNvSpPr/>
          <p:nvPr/>
        </p:nvSpPr>
        <p:spPr>
          <a:xfrm>
            <a:off x="7215120" y="1857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214200" y="142920"/>
            <a:ext cx="6858000" cy="108396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107932" dir="2700000" blurRad="0" rotWithShape="0">
              <a:srgbClr val="a50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Arial"/>
                <a:ea typeface="Arial"/>
              </a:rPr>
              <a:t>Основная (стратегическая) цель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зации образования в общеобразовательных учреждениях: создание условий для  подготовки участников образовательного процесса к полноценной жизни и деятельности в информационном обществе, повышение качества образования посредством интенсивного внедрения и рационального использования ИКТ в образовательный процесс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0"/>
          <p:cNvGrpSpPr/>
          <p:nvPr/>
        </p:nvGrpSpPr>
        <p:grpSpPr>
          <a:xfrm>
            <a:off x="142920" y="1428840"/>
            <a:ext cx="3871440" cy="1081080"/>
            <a:chOff x="142920" y="1428840"/>
            <a:chExt cx="3871440" cy="1081080"/>
          </a:xfrm>
        </p:grpSpPr>
        <p:sp>
          <p:nvSpPr>
            <p:cNvPr id="118" name="AutoShape 31"/>
            <p:cNvSpPr/>
            <p:nvPr/>
          </p:nvSpPr>
          <p:spPr>
            <a:xfrm>
              <a:off x="455400" y="1616040"/>
              <a:ext cx="35589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84a25"/>
                </a:gs>
                <a:gs pos="100000">
                  <a:srgbClr val="58a252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2"/>
            <p:cNvSpPr/>
            <p:nvPr/>
          </p:nvSpPr>
          <p:spPr>
            <a:xfrm>
              <a:off x="142920" y="1428840"/>
              <a:ext cx="560160" cy="1081080"/>
            </a:xfrm>
            <a:prstGeom prst="diamond">
              <a:avLst/>
            </a:prstGeom>
            <a:solidFill>
              <a:srgbClr val="58a25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642600" y="1643040"/>
              <a:ext cx="3286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ормативное правовое обеспечение процессов  информатизации образ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236880" y="1585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"/>
          <p:cNvGrpSpPr/>
          <p:nvPr/>
        </p:nvGrpSpPr>
        <p:grpSpPr>
          <a:xfrm>
            <a:off x="142920" y="2643120"/>
            <a:ext cx="3922560" cy="1071720"/>
            <a:chOff x="142920" y="2643120"/>
            <a:chExt cx="3922560" cy="1071720"/>
          </a:xfrm>
        </p:grpSpPr>
        <p:sp>
          <p:nvSpPr>
            <p:cNvPr id="123" name="AutoShape 3"/>
            <p:cNvSpPr/>
            <p:nvPr/>
          </p:nvSpPr>
          <p:spPr>
            <a:xfrm>
              <a:off x="458640" y="2829960"/>
              <a:ext cx="3606840" cy="71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44449"/>
                </a:gs>
                <a:gs pos="100000">
                  <a:srgbClr val="2c95a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142920" y="2643120"/>
              <a:ext cx="568440" cy="1071720"/>
            </a:xfrm>
            <a:prstGeom prst="diamond">
              <a:avLst/>
            </a:prstGeom>
            <a:solidFill>
              <a:srgbClr val="2c95a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"/>
            <p:cNvSpPr/>
            <p:nvPr/>
          </p:nvSpPr>
          <p:spPr>
            <a:xfrm>
              <a:off x="649440" y="2915640"/>
              <a:ext cx="284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снащение  ОО средствами информат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240120" y="280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"/>
          <p:cNvGrpSpPr/>
          <p:nvPr/>
        </p:nvGrpSpPr>
        <p:grpSpPr>
          <a:xfrm>
            <a:off x="166680" y="3914640"/>
            <a:ext cx="3833640" cy="943200"/>
            <a:chOff x="166680" y="3914640"/>
            <a:chExt cx="3833640" cy="943200"/>
          </a:xfrm>
        </p:grpSpPr>
        <p:sp>
          <p:nvSpPr>
            <p:cNvPr id="128" name="AutoShape 8"/>
            <p:cNvSpPr/>
            <p:nvPr/>
          </p:nvSpPr>
          <p:spPr>
            <a:xfrm>
              <a:off x="476280" y="4078080"/>
              <a:ext cx="3524040" cy="62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9"/>
            <p:cNvSpPr/>
            <p:nvPr/>
          </p:nvSpPr>
          <p:spPr>
            <a:xfrm>
              <a:off x="166680" y="3914640"/>
              <a:ext cx="555480" cy="943200"/>
            </a:xfrm>
            <a:prstGeom prst="diamond">
              <a:avLst/>
            </a:prstGeom>
            <a:solidFill>
              <a:srgbClr val="00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663480" y="4157640"/>
              <a:ext cx="328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овершенствование ИКТ-компетенции пед. работ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259200" y="404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142920" y="5143680"/>
            <a:ext cx="3999960" cy="1079280"/>
            <a:chOff x="142920" y="5143680"/>
            <a:chExt cx="3999960" cy="1079280"/>
          </a:xfrm>
        </p:grpSpPr>
        <p:sp>
          <p:nvSpPr>
            <p:cNvPr id="133" name="AutoShape 13"/>
            <p:cNvSpPr/>
            <p:nvPr/>
          </p:nvSpPr>
          <p:spPr>
            <a:xfrm>
              <a:off x="460080" y="5330880"/>
              <a:ext cx="3628800" cy="71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669"/>
                </a:gs>
                <a:gs pos="100000">
                  <a:srgbClr val="35bbe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42920" y="5143680"/>
              <a:ext cx="571320" cy="1079280"/>
            </a:xfrm>
            <a:prstGeom prst="diamond">
              <a:avLst/>
            </a:prstGeom>
            <a:solidFill>
              <a:srgbClr val="35bbe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650520" y="5421240"/>
              <a:ext cx="349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овершенствование использования ИКТ в образовательном процесс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243000" y="5299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7"/>
          <p:cNvGrpSpPr/>
          <p:nvPr/>
        </p:nvGrpSpPr>
        <p:grpSpPr>
          <a:xfrm>
            <a:off x="5143680" y="1571760"/>
            <a:ext cx="3785760" cy="1042920"/>
            <a:chOff x="5143680" y="1571760"/>
            <a:chExt cx="3785760" cy="1042920"/>
          </a:xfrm>
        </p:grpSpPr>
        <p:sp>
          <p:nvSpPr>
            <p:cNvPr id="138" name="AutoShape 18"/>
            <p:cNvSpPr/>
            <p:nvPr/>
          </p:nvSpPr>
          <p:spPr>
            <a:xfrm>
              <a:off x="5438880" y="1752480"/>
              <a:ext cx="3372840" cy="69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e155d"/>
                </a:gs>
                <a:gs pos="100000">
                  <a:srgbClr val="872ec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9"/>
            <p:cNvSpPr/>
            <p:nvPr/>
          </p:nvSpPr>
          <p:spPr>
            <a:xfrm>
              <a:off x="5143680" y="1571760"/>
              <a:ext cx="531720" cy="1042920"/>
            </a:xfrm>
            <a:prstGeom prst="diamond">
              <a:avLst/>
            </a:prstGeom>
            <a:solidFill>
              <a:srgbClr val="872e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5616360" y="1839960"/>
              <a:ext cx="331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овершенствование и развитие ИС управления деятельностью О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1"/>
            <p:cNvSpPr/>
            <p:nvPr/>
          </p:nvSpPr>
          <p:spPr>
            <a:xfrm>
              <a:off x="5223240" y="172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5"/>
          <p:cNvGrpSpPr/>
          <p:nvPr/>
        </p:nvGrpSpPr>
        <p:grpSpPr>
          <a:xfrm>
            <a:off x="5229360" y="2786040"/>
            <a:ext cx="3414600" cy="934920"/>
            <a:chOff x="5229360" y="2786040"/>
            <a:chExt cx="3414600" cy="934920"/>
          </a:xfrm>
        </p:grpSpPr>
        <p:sp>
          <p:nvSpPr>
            <p:cNvPr id="143" name="AutoShape 36"/>
            <p:cNvSpPr/>
            <p:nvPr/>
          </p:nvSpPr>
          <p:spPr>
            <a:xfrm>
              <a:off x="5504040" y="2947680"/>
              <a:ext cx="3139920" cy="62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7"/>
            <p:cNvSpPr/>
            <p:nvPr/>
          </p:nvSpPr>
          <p:spPr>
            <a:xfrm>
              <a:off x="5229360" y="2786040"/>
              <a:ext cx="493560" cy="934920"/>
            </a:xfrm>
            <a:prstGeom prst="diamond">
              <a:avLst/>
            </a:prstGeom>
            <a:solidFill>
              <a:srgbClr val="cc66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8"/>
            <p:cNvSpPr/>
            <p:nvPr/>
          </p:nvSpPr>
          <p:spPr>
            <a:xfrm>
              <a:off x="5670720" y="3024000"/>
              <a:ext cx="2916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Перевод услуг в электронный в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9"/>
            <p:cNvSpPr/>
            <p:nvPr/>
          </p:nvSpPr>
          <p:spPr>
            <a:xfrm>
              <a:off x="5291640" y="292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Group 35" descr=""/>
          <p:cNvPicPr/>
          <p:nvPr/>
        </p:nvPicPr>
        <p:blipFill>
          <a:blip r:embed="rId2"/>
          <a:stretch/>
        </p:blipFill>
        <p:spPr>
          <a:xfrm>
            <a:off x="5261040" y="3962520"/>
            <a:ext cx="3529080" cy="1042920"/>
          </a:xfrm>
          <a:prstGeom prst="rect">
            <a:avLst/>
          </a:prstGeom>
          <a:ln w="0">
            <a:noFill/>
          </a:ln>
        </p:spPr>
      </p:pic>
      <p:pic>
        <p:nvPicPr>
          <p:cNvPr id="148" name="Group 35" descr=""/>
          <p:cNvPicPr/>
          <p:nvPr/>
        </p:nvPicPr>
        <p:blipFill>
          <a:blip r:embed="rId3"/>
          <a:stretch/>
        </p:blipFill>
        <p:spPr>
          <a:xfrm>
            <a:off x="5261040" y="5114880"/>
            <a:ext cx="3663720" cy="1036800"/>
          </a:xfrm>
          <a:prstGeom prst="rect">
            <a:avLst/>
          </a:prstGeom>
          <a:ln w="0">
            <a:noFill/>
          </a:ln>
        </p:spPr>
      </p:pic>
      <p:sp>
        <p:nvSpPr>
          <p:cNvPr id="149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0"/>
          <p:cNvGraphicFramePr/>
          <p:nvPr/>
        </p:nvGraphicFramePr>
        <p:xfrm>
          <a:off x="5286240" y="4500720"/>
          <a:ext cx="357192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4500720"/>
                    <a:ext cx="357192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2" descr="C:\Documents and Settings\yuriryab\Рабочий стол\Шаблон-Мурманск-2.jpg"/>
          <p:cNvPicPr/>
          <p:nvPr/>
        </p:nvPicPr>
        <p:blipFill>
          <a:blip r:embed="rId3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71280" y="142920"/>
            <a:ext cx="72154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107932" dir="2700000" blurRad="0" rotWithShape="0">
              <a:srgbClr val="a50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ДЦП «Развитие  информационного общества  и формирование электронного правительства  в Мурманской  области на 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2011-2013 годы , 2012-2015 годы  (ДЦП И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71280" y="1047600"/>
            <a:ext cx="72154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107932" dir="2700000" blurRad="0" rotWithShape="0">
              <a:srgbClr val="a5002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ДЦП «Развитие образования Мурманской области на 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2011-2015 годы (2012-2015)</a:t>
            </a:r>
            <a:r>
              <a:rPr b="1" lang="ru-RU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» 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(ДЦП РОМ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2143080" y="1714680"/>
            <a:ext cx="55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1"/>
          <p:cNvGraphicFramePr/>
          <p:nvPr/>
        </p:nvGraphicFramePr>
        <p:xfrm>
          <a:off x="285840" y="4429080"/>
          <a:ext cx="3390840" cy="163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7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4429080"/>
                    <a:ext cx="33908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2"/>
          <p:cNvGraphicFramePr/>
          <p:nvPr/>
        </p:nvGraphicFramePr>
        <p:xfrm>
          <a:off x="5286240" y="2143080"/>
          <a:ext cx="3591000" cy="15717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86240" y="2143080"/>
                    <a:ext cx="35910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Box 12"/>
          <p:cNvSpPr/>
          <p:nvPr/>
        </p:nvSpPr>
        <p:spPr>
          <a:xfrm>
            <a:off x="7929720" y="228600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11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2779200" y="457200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2"/>
          <p:cNvSpPr/>
          <p:nvPr/>
        </p:nvSpPr>
        <p:spPr>
          <a:xfrm>
            <a:off x="285840" y="6286680"/>
            <a:ext cx="357120" cy="21420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4"/>
          <p:cNvSpPr/>
          <p:nvPr/>
        </p:nvSpPr>
        <p:spPr>
          <a:xfrm>
            <a:off x="571680" y="628668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едства област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3357720" y="6286680"/>
            <a:ext cx="357120" cy="2142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4"/>
          <p:cNvSpPr/>
          <p:nvPr/>
        </p:nvSpPr>
        <p:spPr>
          <a:xfrm>
            <a:off x="3643200" y="6286680"/>
            <a:ext cx="250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едства местных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6"/>
          <p:cNvSpPr/>
          <p:nvPr/>
        </p:nvSpPr>
        <p:spPr>
          <a:xfrm>
            <a:off x="6143760" y="6286680"/>
            <a:ext cx="357120" cy="21420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6500880" y="621504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едства федерально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3"/>
          <p:cNvSpPr/>
          <p:nvPr/>
        </p:nvSpPr>
        <p:spPr>
          <a:xfrm>
            <a:off x="7993800" y="46432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1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Диаграмма 22" descr=""/>
          <p:cNvPicPr/>
          <p:nvPr/>
        </p:nvPicPr>
        <p:blipFill>
          <a:blip r:embed="rId8"/>
          <a:stretch/>
        </p:blipFill>
        <p:spPr>
          <a:xfrm>
            <a:off x="214200" y="1857240"/>
            <a:ext cx="3691080" cy="21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Диаграмма 14" descr=""/>
          <p:cNvPicPr/>
          <p:nvPr/>
        </p:nvPicPr>
        <p:blipFill>
          <a:blip r:embed="rId1"/>
          <a:stretch/>
        </p:blipFill>
        <p:spPr>
          <a:xfrm>
            <a:off x="285840" y="3857760"/>
            <a:ext cx="8643960" cy="3000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0"/>
            <a:ext cx="8001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ДОСТУП  ШКОЛ К  РЕСУРСАМ СЕТИ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pic>
        <p:nvPicPr>
          <p:cNvPr id="174" name="Диаграмма 8" descr=""/>
          <p:cNvPicPr/>
          <p:nvPr/>
        </p:nvPicPr>
        <p:blipFill>
          <a:blip r:embed="rId3"/>
          <a:stretch/>
        </p:blipFill>
        <p:spPr>
          <a:xfrm>
            <a:off x="-6480" y="420840"/>
            <a:ext cx="4797720" cy="3084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j0423577[1]"/>
          <p:cNvPicPr/>
          <p:nvPr/>
        </p:nvPicPr>
        <p:blipFill>
          <a:blip r:embed="rId4"/>
          <a:stretch/>
        </p:blipFill>
        <p:spPr>
          <a:xfrm>
            <a:off x="4572000" y="857160"/>
            <a:ext cx="428760" cy="3571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0"/>
          <p:cNvSpPr/>
          <p:nvPr/>
        </p:nvSpPr>
        <p:spPr>
          <a:xfrm>
            <a:off x="5143680" y="642960"/>
            <a:ext cx="3714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я школ, имеющих подключение к сети интернет на скорости </a:t>
            </a: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более 2 Мбит/с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 27,7%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реднероссийский показатель - 17%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5214960" y="1643040"/>
            <a:ext cx="3571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я школ, имеющих подключение к сети интернет на скорости </a:t>
            </a: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 менее 2 Мбит/с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 92,7% </a:t>
            </a:r>
            <a:r>
              <a:rPr b="0" i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реднероссийский показатель – 25,9%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j0423577[1]"/>
          <p:cNvPicPr/>
          <p:nvPr/>
        </p:nvPicPr>
        <p:blipFill>
          <a:blip r:embed="rId5"/>
          <a:stretch/>
        </p:blipFill>
        <p:spPr>
          <a:xfrm>
            <a:off x="4572000" y="1785960"/>
            <a:ext cx="428760" cy="357120"/>
          </a:xfrm>
          <a:prstGeom prst="rect">
            <a:avLst/>
          </a:prstGeom>
          <a:ln w="0">
            <a:noFill/>
          </a:ln>
        </p:spPr>
      </p:pic>
      <p:sp>
        <p:nvSpPr>
          <p:cNvPr id="179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"/>
          <p:cNvSpPr/>
          <p:nvPr/>
        </p:nvSpPr>
        <p:spPr>
          <a:xfrm>
            <a:off x="785880" y="34290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я школ, имеющих подключение к сети интернет на скорости (в 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Диаграмма 13" descr=""/>
          <p:cNvPicPr/>
          <p:nvPr/>
        </p:nvPicPr>
        <p:blipFill>
          <a:blip r:embed="rId1"/>
          <a:stretch/>
        </p:blipFill>
        <p:spPr>
          <a:xfrm>
            <a:off x="-6480" y="2352600"/>
            <a:ext cx="9326520" cy="4670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"/>
          <p:cNvSpPr/>
          <p:nvPr/>
        </p:nvSpPr>
        <p:spPr>
          <a:xfrm>
            <a:off x="214200" y="1214280"/>
            <a:ext cx="2214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реднее  значение по области – 6,8 </a:t>
            </a:r>
            <a:r>
              <a:rPr b="1" lang="ru-RU" sz="1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(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0"/>
          <p:cNvCxnSpPr/>
          <p:nvPr/>
        </p:nvCxnSpPr>
        <p:spPr>
          <a:xfrm flipH="1">
            <a:off x="498240" y="1714680"/>
            <a:ext cx="21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5" name="TextBox 7"/>
          <p:cNvSpPr/>
          <p:nvPr/>
        </p:nvSpPr>
        <p:spPr>
          <a:xfrm>
            <a:off x="285840" y="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личество обучающихся на один современный П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Диаграмма 9" descr=""/>
          <p:cNvPicPr/>
          <p:nvPr/>
        </p:nvPicPr>
        <p:blipFill>
          <a:blip r:embed="rId3"/>
          <a:stretch/>
        </p:blipFill>
        <p:spPr>
          <a:xfrm>
            <a:off x="2928960" y="500040"/>
            <a:ext cx="3571920" cy="178596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ая соединительная линия 11"/>
          <p:cNvSpPr/>
          <p:nvPr/>
        </p:nvSpPr>
        <p:spPr>
          <a:xfrm flipV="1">
            <a:off x="428760" y="4429080"/>
            <a:ext cx="8643960" cy="46080"/>
          </a:xfrm>
          <a:prstGeom prst="line">
            <a:avLst/>
          </a:prstGeom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6858000" y="1285920"/>
            <a:ext cx="221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реднее  значение по области – 12,5 </a:t>
            </a:r>
            <a:r>
              <a:rPr b="1" lang="ru-RU" sz="14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(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 стрелкой 15"/>
          <p:cNvCxnSpPr/>
          <p:nvPr/>
        </p:nvCxnSpPr>
        <p:spPr>
          <a:xfrm>
            <a:off x="8785800" y="1937880"/>
            <a:ext cx="1080" cy="1848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0" name="Прямая соединительная линия 17"/>
          <p:cNvSpPr/>
          <p:nvPr/>
        </p:nvSpPr>
        <p:spPr>
          <a:xfrm flipV="1">
            <a:off x="357120" y="3811680"/>
            <a:ext cx="8643960" cy="4608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Диаграмма 20" descr=""/>
          <p:cNvPicPr/>
          <p:nvPr/>
        </p:nvPicPr>
        <p:blipFill>
          <a:blip r:embed="rId1"/>
          <a:stretch/>
        </p:blipFill>
        <p:spPr>
          <a:xfrm>
            <a:off x="-6480" y="1279440"/>
            <a:ext cx="9326520" cy="5486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142920" y="1000080"/>
            <a:ext cx="221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реднее  значение по области – 14,7 </a:t>
            </a:r>
            <a:r>
              <a:rPr b="1" lang="ru-RU" sz="14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(31.12.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6"/>
          <p:cNvSpPr/>
          <p:nvPr/>
        </p:nvSpPr>
        <p:spPr>
          <a:xfrm flipV="1">
            <a:off x="285840" y="3500280"/>
            <a:ext cx="8643960" cy="46080"/>
          </a:xfrm>
          <a:prstGeom prst="line">
            <a:avLst/>
          </a:prstGeom>
          <a:ln w="3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Прямая со стрелкой 10"/>
          <p:cNvCxnSpPr>
            <a:endCxn id="195" idx="0"/>
          </p:cNvCxnSpPr>
          <p:nvPr/>
        </p:nvCxnSpPr>
        <p:spPr>
          <a:xfrm>
            <a:off x="284760" y="1857240"/>
            <a:ext cx="1080" cy="1689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7" name="TextBox 7"/>
          <p:cNvSpPr/>
          <p:nvPr/>
        </p:nvSpPr>
        <p:spPr>
          <a:xfrm>
            <a:off x="285840" y="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Количество ПК на 100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Диаграмма 9"/>
          <p:cNvGraphicFramePr/>
          <p:nvPr/>
        </p:nvGraphicFramePr>
        <p:xfrm>
          <a:off x="3017880" y="498600"/>
          <a:ext cx="3733920" cy="162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9" name="Диаграмма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7880" y="498600"/>
                    <a:ext cx="37339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Box 1"/>
          <p:cNvSpPr/>
          <p:nvPr/>
        </p:nvSpPr>
        <p:spPr>
          <a:xfrm>
            <a:off x="6929280" y="1714680"/>
            <a:ext cx="221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реднее  значение по области – 8 </a:t>
            </a:r>
            <a:r>
              <a:rPr b="1" lang="ru-RU" sz="14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(01.09.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8"/>
          <p:cNvSpPr/>
          <p:nvPr/>
        </p:nvSpPr>
        <p:spPr>
          <a:xfrm flipV="1">
            <a:off x="285840" y="4429080"/>
            <a:ext cx="8643960" cy="46080"/>
          </a:xfrm>
          <a:prstGeom prst="line">
            <a:avLst/>
          </a:prstGeom>
          <a:ln w="64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19"/>
          <p:cNvCxnSpPr/>
          <p:nvPr/>
        </p:nvCxnSpPr>
        <p:spPr>
          <a:xfrm flipH="1">
            <a:off x="8143560" y="2356920"/>
            <a:ext cx="2160" cy="2072520"/>
          </a:xfrm>
          <a:prstGeom prst="straightConnector1">
            <a:avLst/>
          </a:prstGeom>
          <a:ln w="93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203" name="Прямоугольник 21"/>
          <p:cNvSpPr/>
          <p:nvPr/>
        </p:nvSpPr>
        <p:spPr>
          <a:xfrm>
            <a:off x="1785960" y="6572160"/>
            <a:ext cx="357120" cy="214560"/>
          </a:xfrm>
          <a:prstGeom prst="rect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2"/>
          <p:cNvSpPr/>
          <p:nvPr/>
        </p:nvSpPr>
        <p:spPr>
          <a:xfrm>
            <a:off x="4000680" y="6572160"/>
            <a:ext cx="357120" cy="21456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3"/>
          <p:cNvSpPr/>
          <p:nvPr/>
        </p:nvSpPr>
        <p:spPr>
          <a:xfrm>
            <a:off x="2286000" y="658188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.12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4"/>
          <p:cNvSpPr/>
          <p:nvPr/>
        </p:nvSpPr>
        <p:spPr>
          <a:xfrm>
            <a:off x="4572000" y="651024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9.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6500880" y="0"/>
            <a:ext cx="264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obrnadzor.baltinform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142920" y="1143000"/>
            <a:ext cx="380880" cy="380880"/>
            <a:chOff x="142920" y="1143000"/>
            <a:chExt cx="380880" cy="380880"/>
          </a:xfrm>
        </p:grpSpPr>
        <p:sp>
          <p:nvSpPr>
            <p:cNvPr id="210" name="Oval 5"/>
            <p:cNvSpPr/>
            <p:nvPr/>
          </p:nvSpPr>
          <p:spPr>
            <a:xfrm>
              <a:off x="142920" y="1143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"/>
            <p:cNvSpPr/>
            <p:nvPr/>
          </p:nvSpPr>
          <p:spPr>
            <a:xfrm>
              <a:off x="164520" y="1164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7"/>
            <p:cNvSpPr/>
            <p:nvPr/>
          </p:nvSpPr>
          <p:spPr>
            <a:xfrm>
              <a:off x="183960" y="11840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8"/>
            <p:cNvSpPr/>
            <p:nvPr/>
          </p:nvSpPr>
          <p:spPr>
            <a:xfrm>
              <a:off x="184320" y="1184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9"/>
            <p:cNvSpPr/>
            <p:nvPr/>
          </p:nvSpPr>
          <p:spPr>
            <a:xfrm>
              <a:off x="203040" y="1203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203760" y="1203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60"/>
          <p:cNvSpPr/>
          <p:nvPr/>
        </p:nvSpPr>
        <p:spPr>
          <a:xfrm>
            <a:off x="357120" y="142920"/>
            <a:ext cx="6786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ЛУЧШЕНИЕ ОСНАЩЕНННОСТИ ОУ СРЕДСТВАМИ ИНФОРМАТИЗАЦИИ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71680" y="5786280"/>
            <a:ext cx="637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бильными компьютерными классами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,4 раза </a:t>
            </a:r>
            <a:r>
              <a:rPr b="0" i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38,6% О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0"/>
          <p:cNvGrpSpPr/>
          <p:nvPr/>
        </p:nvGrpSpPr>
        <p:grpSpPr>
          <a:xfrm>
            <a:off x="142920" y="2357280"/>
            <a:ext cx="380880" cy="381240"/>
            <a:chOff x="142920" y="2357280"/>
            <a:chExt cx="380880" cy="381240"/>
          </a:xfrm>
        </p:grpSpPr>
        <p:sp>
          <p:nvSpPr>
            <p:cNvPr id="219" name="Oval 61"/>
            <p:cNvSpPr/>
            <p:nvPr/>
          </p:nvSpPr>
          <p:spPr>
            <a:xfrm>
              <a:off x="142920" y="2357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2"/>
            <p:cNvSpPr/>
            <p:nvPr/>
          </p:nvSpPr>
          <p:spPr>
            <a:xfrm>
              <a:off x="164520" y="23785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63"/>
            <p:cNvSpPr/>
            <p:nvPr/>
          </p:nvSpPr>
          <p:spPr>
            <a:xfrm>
              <a:off x="183960" y="239832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4"/>
            <p:cNvSpPr/>
            <p:nvPr/>
          </p:nvSpPr>
          <p:spPr>
            <a:xfrm>
              <a:off x="184320" y="23986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5"/>
            <p:cNvSpPr/>
            <p:nvPr/>
          </p:nvSpPr>
          <p:spPr>
            <a:xfrm>
              <a:off x="203040" y="24177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6"/>
            <p:cNvSpPr/>
            <p:nvPr/>
          </p:nvSpPr>
          <p:spPr>
            <a:xfrm>
              <a:off x="203760" y="24181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1"/>
          <p:cNvGrpSpPr/>
          <p:nvPr/>
        </p:nvGrpSpPr>
        <p:grpSpPr>
          <a:xfrm>
            <a:off x="142920" y="3500280"/>
            <a:ext cx="355680" cy="381240"/>
            <a:chOff x="142920" y="3500280"/>
            <a:chExt cx="355680" cy="381240"/>
          </a:xfrm>
        </p:grpSpPr>
        <p:sp>
          <p:nvSpPr>
            <p:cNvPr id="226" name="Oval 82"/>
            <p:cNvSpPr/>
            <p:nvPr/>
          </p:nvSpPr>
          <p:spPr>
            <a:xfrm>
              <a:off x="142920" y="350028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3"/>
            <p:cNvSpPr/>
            <p:nvPr/>
          </p:nvSpPr>
          <p:spPr>
            <a:xfrm>
              <a:off x="163080" y="352152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4"/>
            <p:cNvSpPr/>
            <p:nvPr/>
          </p:nvSpPr>
          <p:spPr>
            <a:xfrm>
              <a:off x="180720" y="3541320"/>
              <a:ext cx="27792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5"/>
            <p:cNvSpPr/>
            <p:nvPr/>
          </p:nvSpPr>
          <p:spPr>
            <a:xfrm>
              <a:off x="181440" y="35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6"/>
            <p:cNvSpPr/>
            <p:nvPr/>
          </p:nvSpPr>
          <p:spPr>
            <a:xfrm>
              <a:off x="200160" y="3560760"/>
              <a:ext cx="241560" cy="260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7"/>
            <p:cNvSpPr/>
            <p:nvPr/>
          </p:nvSpPr>
          <p:spPr>
            <a:xfrm>
              <a:off x="199800" y="356112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5"/>
          <p:cNvGrpSpPr/>
          <p:nvPr/>
        </p:nvGrpSpPr>
        <p:grpSpPr>
          <a:xfrm>
            <a:off x="142920" y="4643280"/>
            <a:ext cx="380880" cy="381240"/>
            <a:chOff x="142920" y="4643280"/>
            <a:chExt cx="380880" cy="381240"/>
          </a:xfrm>
        </p:grpSpPr>
        <p:sp>
          <p:nvSpPr>
            <p:cNvPr id="233" name="Oval 26"/>
            <p:cNvSpPr/>
            <p:nvPr/>
          </p:nvSpPr>
          <p:spPr>
            <a:xfrm>
              <a:off x="142920" y="4643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7"/>
            <p:cNvSpPr/>
            <p:nvPr/>
          </p:nvSpPr>
          <p:spPr>
            <a:xfrm>
              <a:off x="164520" y="46645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8"/>
            <p:cNvSpPr/>
            <p:nvPr/>
          </p:nvSpPr>
          <p:spPr>
            <a:xfrm>
              <a:off x="183960" y="468432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9"/>
            <p:cNvSpPr/>
            <p:nvPr/>
          </p:nvSpPr>
          <p:spPr>
            <a:xfrm>
              <a:off x="184320" y="46846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0"/>
            <p:cNvSpPr/>
            <p:nvPr/>
          </p:nvSpPr>
          <p:spPr>
            <a:xfrm>
              <a:off x="203040" y="47037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1"/>
            <p:cNvSpPr/>
            <p:nvPr/>
          </p:nvSpPr>
          <p:spPr>
            <a:xfrm>
              <a:off x="203760" y="47041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0"/>
          <p:cNvGrpSpPr/>
          <p:nvPr/>
        </p:nvGrpSpPr>
        <p:grpSpPr>
          <a:xfrm>
            <a:off x="142920" y="5857920"/>
            <a:ext cx="380880" cy="380880"/>
            <a:chOff x="142920" y="5857920"/>
            <a:chExt cx="380880" cy="380880"/>
          </a:xfrm>
        </p:grpSpPr>
        <p:sp>
          <p:nvSpPr>
            <p:cNvPr id="240" name="Oval 51"/>
            <p:cNvSpPr/>
            <p:nvPr/>
          </p:nvSpPr>
          <p:spPr>
            <a:xfrm>
              <a:off x="142920" y="5857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52"/>
            <p:cNvSpPr/>
            <p:nvPr/>
          </p:nvSpPr>
          <p:spPr>
            <a:xfrm>
              <a:off x="164520" y="5879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53"/>
            <p:cNvSpPr/>
            <p:nvPr/>
          </p:nvSpPr>
          <p:spPr>
            <a:xfrm>
              <a:off x="183960" y="589896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54"/>
            <p:cNvSpPr/>
            <p:nvPr/>
          </p:nvSpPr>
          <p:spPr>
            <a:xfrm>
              <a:off x="184320" y="5899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55"/>
            <p:cNvSpPr/>
            <p:nvPr/>
          </p:nvSpPr>
          <p:spPr>
            <a:xfrm>
              <a:off x="203040" y="5918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0000ff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56"/>
            <p:cNvSpPr/>
            <p:nvPr/>
          </p:nvSpPr>
          <p:spPr>
            <a:xfrm>
              <a:off x="203760" y="5918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7485120" y="0"/>
            <a:ext cx="1658880" cy="1012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im5-tub-ru.yandex.net/i?id=656388624-42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928800"/>
            <a:ext cx="1285920" cy="9507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6"/>
          <p:cNvSpPr/>
          <p:nvPr/>
        </p:nvSpPr>
        <p:spPr>
          <a:xfrm>
            <a:off x="642960" y="121428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активными досками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,4 раза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7</a:t>
            </a:r>
            <a:r>
              <a:rPr b="0" i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9 шт. на 1 школ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http://im8-tub-ru.yandex.net/i?id=435810221-41-72&amp;n=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15120" y="1928880"/>
            <a:ext cx="1354320" cy="10000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9"/>
          <p:cNvSpPr/>
          <p:nvPr/>
        </p:nvSpPr>
        <p:spPr>
          <a:xfrm>
            <a:off x="714240" y="221472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пециализированным оборудованием видеоконференцсвязи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,4 раза </a:t>
            </a:r>
            <a:r>
              <a:rPr b="0" i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32,4% шк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http://im6-tub-ru.yandex.net/i?id=548082893-23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57960" y="3143160"/>
            <a:ext cx="1238400" cy="9288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0"/>
          <p:cNvSpPr/>
          <p:nvPr/>
        </p:nvSpPr>
        <p:spPr>
          <a:xfrm>
            <a:off x="642960" y="342900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ивалентными залами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,9 раз </a:t>
            </a:r>
            <a:r>
              <a:rPr b="0" i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7,6% О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http://im3-tub-ru.yandex.net/i?id=55814219-35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15120" y="4429080"/>
            <a:ext cx="1238400" cy="928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3"/>
          <p:cNvSpPr/>
          <p:nvPr/>
        </p:nvSpPr>
        <p:spPr>
          <a:xfrm>
            <a:off x="571680" y="456876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ультимедийными лингафонными классами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,9 раза </a:t>
            </a:r>
            <a:r>
              <a:rPr b="0" i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72,2% О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http://im4-tub-ru.yandex.net/i?id=364638927-38-72&amp;n=21"/>
          <p:cNvPicPr/>
          <p:nvPr/>
        </p:nvPicPr>
        <p:blipFill>
          <a:blip r:embed="rId10"/>
          <a:stretch/>
        </p:blipFill>
        <p:spPr>
          <a:xfrm>
            <a:off x="7072200" y="5715000"/>
            <a:ext cx="1357560" cy="984240"/>
          </a:xfrm>
          <a:prstGeom prst="rect">
            <a:avLst/>
          </a:prstGeom>
          <a:ln w="0">
            <a:noFill/>
          </a:ln>
        </p:spPr>
      </p:pic>
      <p:sp>
        <p:nvSpPr>
          <p:cNvPr id="256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0"/>
            <a:ext cx="8001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ИКТ-инфра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4" descr=""/>
          <p:cNvPicPr/>
          <p:nvPr/>
        </p:nvPicPr>
        <p:blipFill>
          <a:blip r:embed="rId2"/>
          <a:stretch/>
        </p:blipFill>
        <p:spPr>
          <a:xfrm>
            <a:off x="5072040" y="4429080"/>
            <a:ext cx="3714840" cy="1771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5"/>
          <p:cNvSpPr/>
          <p:nvPr/>
        </p:nvSpPr>
        <p:spPr>
          <a:xfrm>
            <a:off x="285840" y="3286080"/>
            <a:ext cx="4214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оля ОУ имеющих компьютерные классы в составе не менее 7 ПК, работающих в единой </a:t>
            </a: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ЛВС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 с широкополосным доступом в Интернет,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4857840" y="785880"/>
            <a:ext cx="392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оля предметных кабинетов (с учетом кабинетов информатики), объединенных в единую </a:t>
            </a:r>
            <a:r>
              <a:rPr b="1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ЛВС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,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Диаграмма 14" descr=""/>
          <p:cNvPicPr/>
          <p:nvPr/>
        </p:nvPicPr>
        <p:blipFill>
          <a:blip r:embed="rId3"/>
          <a:stretch/>
        </p:blipFill>
        <p:spPr>
          <a:xfrm>
            <a:off x="420840" y="1279440"/>
            <a:ext cx="3797280" cy="20131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7"/>
          <p:cNvSpPr/>
          <p:nvPr/>
        </p:nvSpPr>
        <p:spPr>
          <a:xfrm>
            <a:off x="500040" y="785880"/>
            <a:ext cx="335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оля школ, имеющих единые локальные вычислительные сети, в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8686800" y="6629400"/>
            <a:ext cx="4572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7"/>
          <p:cNvSpPr/>
          <p:nvPr/>
        </p:nvSpPr>
        <p:spPr>
          <a:xfrm>
            <a:off x="4786200" y="3286080"/>
            <a:ext cx="392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оля предметных кабинетов (с учетом кабинетов информатики), имеющих не менее 1 ПК,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ject 3" descr=""/>
          <p:cNvPicPr/>
          <p:nvPr/>
        </p:nvPicPr>
        <p:blipFill>
          <a:blip r:embed="rId4"/>
          <a:stretch/>
        </p:blipFill>
        <p:spPr>
          <a:xfrm>
            <a:off x="5072040" y="1500120"/>
            <a:ext cx="3714840" cy="177156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4" descr=""/>
          <p:cNvPicPr/>
          <p:nvPr/>
        </p:nvPicPr>
        <p:blipFill>
          <a:blip r:embed="rId5"/>
          <a:stretch/>
        </p:blipFill>
        <p:spPr>
          <a:xfrm>
            <a:off x="714240" y="4429080"/>
            <a:ext cx="3714840" cy="177156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ая соединительная линия 17"/>
          <p:cNvSpPr/>
          <p:nvPr/>
        </p:nvSpPr>
        <p:spPr>
          <a:xfrm>
            <a:off x="4572000" y="500040"/>
            <a:ext cx="71280" cy="55720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1:29:25Z</dcterms:created>
  <dc:creator>Пустоваченко Н.Н.</dc:creator>
  <dc:description/>
  <dc:language>en-US</dc:language>
  <cp:lastModifiedBy>Нина Николаевна Пустоваченко</cp:lastModifiedBy>
  <dcterms:modified xsi:type="dcterms:W3CDTF">2014-03-20T04:34:54Z</dcterms:modified>
  <cp:revision>830</cp:revision>
  <dc:subject/>
  <dc:title>Выступление на коллегии 28.11.2012</dc:title>
</cp:coreProperties>
</file>