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7013-AC20-475C-BDEE-3B4FB0A568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4C29-CC0C-45AA-B676-346A7E40BE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9-2011 г.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BBBF-86A9-4EC8-BA33-77688093B7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82D-762A-4DE7-93D4-B62A8507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C17-87D0-4344-993F-C2D1FB6E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0FE-5A5A-4C07-BEFC-B784FD73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4E6-C2D4-4D1E-ACFD-591B9B2E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DBA-8770-42F2-8ED3-104F96E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F81-01F7-4BC3-956F-5CACAEB9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966-0B0F-479C-8667-F4722D4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925-E4F0-4F60-8A66-C293962E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AE6-BEAD-4900-946F-ADD18855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174-30C2-4F85-8123-01CD419E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5EE-CD2C-41ED-8D18-C15D1A6A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D6F-EB0A-4530-867F-014507CC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AC48-4682-4826-B926-2470E0769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7500960" cy="4179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57120" y="1857240"/>
            <a:ext cx="82868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38"/>
              </a:spcBef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8"/>
              </a:spcBef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934320" y="1295280"/>
            <a:ext cx="2209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07 мая 201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г. Мурм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инистерство образования и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урма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6000840" y="4929120"/>
            <a:ext cx="3159000" cy="19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E871-DC5F-4366-B4E6-228AF7C5C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71680" y="2214720"/>
            <a:ext cx="81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Об основных направл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и к новому 2014/2015 учебному год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0" y="6000840"/>
            <a:ext cx="5214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чальник отдела целевых программ и ресурсного обеспечения Министерства образования и науки Мурман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ыганков Александр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75F1-7F0C-45B9-BE46-F8CB4F5B1C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2"/>
          <a:stretch/>
        </p:blipFill>
        <p:spPr>
          <a:xfrm>
            <a:off x="0" y="700200"/>
            <a:ext cx="9144000" cy="618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ая соединительная линия 9"/>
          <p:cNvSpPr/>
          <p:nvPr/>
        </p:nvSpPr>
        <p:spPr>
          <a:xfrm>
            <a:off x="539640" y="2205000"/>
            <a:ext cx="7993080" cy="7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035920" y="18414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83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7266-C8B7-4509-8EE5-9F7F0A3594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0" y="21420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роки приемки образовательны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890640"/>
            <a:ext cx="9144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0 по 25 август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оставление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ых отчетов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ходе приемки в Министер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 августа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оставление предварительных итоговых докладов (8 таблиц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25 август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оставление окончательных итоговых докладов (8 таблиц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августа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я прием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5-28 август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о отопительного пери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Documents and Settings\yuriryab\Рабочий стол\Карта России-Мурманск.jpg"/>
          <p:cNvPicPr/>
          <p:nvPr/>
        </p:nvPicPr>
        <p:blipFill>
          <a:blip r:embed="rId1"/>
          <a:stretch/>
        </p:blipFill>
        <p:spPr>
          <a:xfrm>
            <a:off x="1643040" y="1000080"/>
            <a:ext cx="7500960" cy="4179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0" y="0"/>
            <a:ext cx="8143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7680" y="550080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БЛАГОДАРЮ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7856640" y="0"/>
            <a:ext cx="128736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2379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еть образовательных учреждений Мурманской области на 01.01.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050A-DBA7-42BD-937D-80C734BD5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0" y="51436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финансирования мероприятий по подготовке к новому учебному году в 2014 го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рограмма Мурманской области «Развитие образования» на 2014-2020 г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целевые программы развития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Диаграмма 8" descr="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364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0"/>
          <p:cNvSpPr/>
          <p:nvPr/>
        </p:nvSpPr>
        <p:spPr>
          <a:xfrm>
            <a:off x="0" y="428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щее количество образовательных организац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–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58 (в 2013 - 5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ые направления деятельности при подготовке к новому 2014/2015 учебному год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хема 7" descr=""/>
          <p:cNvPicPr/>
          <p:nvPr/>
        </p:nvPicPr>
        <p:blipFill>
          <a:blip r:embed="rId1"/>
          <a:stretch/>
        </p:blipFill>
        <p:spPr>
          <a:xfrm>
            <a:off x="450720" y="1414440"/>
            <a:ext cx="8248680" cy="177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62920" y="0"/>
            <a:ext cx="109224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Схема 8" descr=""/>
          <p:cNvPicPr/>
          <p:nvPr/>
        </p:nvPicPr>
        <p:blipFill>
          <a:blip r:embed="rId3"/>
          <a:stretch/>
        </p:blipFill>
        <p:spPr>
          <a:xfrm>
            <a:off x="444600" y="2840040"/>
            <a:ext cx="8315280" cy="1463760"/>
          </a:xfrm>
          <a:prstGeom prst="rect">
            <a:avLst/>
          </a:prstGeom>
          <a:ln w="0">
            <a:noFill/>
          </a:ln>
        </p:spPr>
      </p:pic>
      <p:grpSp>
        <p:nvGrpSpPr>
          <p:cNvPr id="66" name="Группа 14"/>
          <p:cNvGrpSpPr/>
          <p:nvPr/>
        </p:nvGrpSpPr>
        <p:grpSpPr>
          <a:xfrm>
            <a:off x="457200" y="3200400"/>
            <a:ext cx="8291520" cy="3036960"/>
            <a:chOff x="457200" y="3200400"/>
            <a:chExt cx="8291520" cy="3036960"/>
          </a:xfrm>
        </p:grpSpPr>
        <p:sp>
          <p:nvSpPr>
            <p:cNvPr id="67" name="Скругленный прямоугольник 15"/>
            <p:cNvSpPr/>
            <p:nvPr/>
          </p:nvSpPr>
          <p:spPr>
            <a:xfrm>
              <a:off x="457200" y="4363920"/>
              <a:ext cx="8291520" cy="1873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13 - 19,2 млн.рублей из областного бюджета на устранение предпис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14 – 26,4 млн.рублей  из областного бюджета на устранение предпис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Скругленный прямоугольник 4"/>
            <p:cNvSpPr/>
            <p:nvPr/>
          </p:nvSpPr>
          <p:spPr>
            <a:xfrm>
              <a:off x="576000" y="3200400"/>
              <a:ext cx="7991640" cy="19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501480" y="237960"/>
            <a:ext cx="7383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личие неустраненных предпис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я надзорной деятельности ГУ М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61C0-4861-46F1-90DC-4370EC0E3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Диаграмма 10"/>
          <p:cNvGraphicFramePr/>
          <p:nvPr/>
        </p:nvGraphicFramePr>
        <p:xfrm>
          <a:off x="450720" y="1515960"/>
          <a:ext cx="8420400" cy="462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Диаграмма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720" y="1515960"/>
                    <a:ext cx="8420400" cy="46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501480" y="237960"/>
            <a:ext cx="73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личие неустраненных предписаний Управления Роспотребнадзора по Мурма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3EF0-76D7-4A5D-96EA-95646E989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Диаграмма 9"/>
          <p:cNvGraphicFramePr/>
          <p:nvPr/>
        </p:nvGraphicFramePr>
        <p:xfrm>
          <a:off x="560520" y="1290600"/>
          <a:ext cx="8177040" cy="4781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Диаграмма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0520" y="1290600"/>
                    <a:ext cx="817704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хема 3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375400" cy="127476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7" descr=""/>
          <p:cNvPicPr/>
          <p:nvPr/>
        </p:nvPicPr>
        <p:blipFill>
          <a:blip r:embed="rId2"/>
          <a:stretch/>
        </p:blipFill>
        <p:spPr>
          <a:xfrm>
            <a:off x="371520" y="1573200"/>
            <a:ext cx="8327880" cy="4565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Диаграмма 9" descr="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501480" y="237960"/>
            <a:ext cx="73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личие наружных периметральных огра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E100-3A5F-4FD5-BB47-2DB517ACE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5"/>
          <p:cNvSpPr/>
          <p:nvPr/>
        </p:nvSpPr>
        <p:spPr>
          <a:xfrm>
            <a:off x="684360" y="1916280"/>
            <a:ext cx="8215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8393040" y="1357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bbb59"/>
                </a:solidFill>
                <a:latin typeface="Arial"/>
              </a:rPr>
              <a:t>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Диаграмма 8" descr="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501480" y="237960"/>
            <a:ext cx="73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ащение кнопками тревожной сигн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1D17-5140-4D06-A3E4-048E3747C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7"/>
          <p:cNvSpPr/>
          <p:nvPr/>
        </p:nvSpPr>
        <p:spPr>
          <a:xfrm flipV="1">
            <a:off x="714240" y="1645920"/>
            <a:ext cx="8034480" cy="111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8393040" y="1214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bbb59"/>
                </a:solidFill>
                <a:latin typeface="Arial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Диаграмма 8" descr=""/>
          <p:cNvPicPr/>
          <p:nvPr/>
        </p:nvPicPr>
        <p:blipFill>
          <a:blip r:embed="rId1"/>
          <a:stretch/>
        </p:blipFill>
        <p:spPr>
          <a:xfrm>
            <a:off x="0" y="8352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личие систем наружного и внутреннего видео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EF70-D6DE-43AD-8E64-1ACA63E70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5"/>
          <p:cNvSpPr/>
          <p:nvPr/>
        </p:nvSpPr>
        <p:spPr>
          <a:xfrm>
            <a:off x="395280" y="3068640"/>
            <a:ext cx="857268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426520" y="269892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bbb59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7:59:43Z</dcterms:created>
  <dc:creator>Чертова Надежда Васильевна</dc:creator>
  <dc:description/>
  <dc:language>en-US</dc:language>
  <cp:lastModifiedBy>Александр А. Цыганков</cp:lastModifiedBy>
  <dcterms:modified xsi:type="dcterms:W3CDTF">2014-05-07T05:35:42Z</dcterms:modified>
  <cp:revision>550</cp:revision>
  <dc:subject/>
  <dc:title>Слайд 1</dc:title>
</cp:coreProperties>
</file>